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B2E-0AF4-4DB5-8DE1-9E2E9EA0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3D1-8A1D-4EDB-A47E-0D3F3517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2C4-8550-4C18-8B58-B256E718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70B-59E2-4A95-8369-C4CD0AD4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BECF-9D60-4BCA-AA7C-EC9330CC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66F8-3CFC-421D-85B0-AD81544F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73D8-5AA5-48D4-AA04-3F7EC564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22E3-E301-4E81-871D-D8FDDBAE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E533-579B-4D36-9E4F-0493B392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7023-1E19-4126-B7B7-2CD5D3A5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D102-E8A9-4830-BAF2-301412DA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C60-8397-4054-92BA-F61544EA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D8A9-5A6D-40DB-A9C0-6BABF0B5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0D67-A7B4-40C7-BD82-43D704BA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109C-3B7C-4188-AD4B-FA4A2413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64BE-CF2E-4509-B8A5-6D6A42DC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9318-E5FE-4322-A39E-B949EB63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2E0-984D-4BE1-AF9E-E7B81830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4A3-94EB-44A2-A5C1-BCC2955F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B49-A35A-433B-A111-3CD6EE0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3D4-E0BD-4660-BE8A-60EC1B48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FF3-367C-409E-BFA5-BFFA930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A56-1DEC-4CFF-B4D7-C851819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58A-5C76-487E-8C5B-F3082F76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1B78-F508-4029-B296-2598B78A7DD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9F46-D14D-419C-9081-819A5B75FF1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I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eces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cesidad de una Política de Seguridad en una organ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19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Justifica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us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tablece lo que se puede hacer y lo que no, de forma escrita y formal. Se puede leer y es algo escrito y acept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muestra que la empresa se lo quiere tomar en serio. Implica un compromiso con los direc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frente a una auditoria, sobre todo si se siguen las normaliz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til para demostrar casos de intrusiones o delitos contra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84800"/>
            <a:ext cx="32004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isis. Normalización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.           ISO 17799, BS7799, RFC 21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tandard y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gurosidad y Mét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ing ”etico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Normalización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ización y método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ker vs Administr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Arial"/>
              </a:rPr>
              <a:t>Teoría de la “presa”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243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76720" y="3176640"/>
          <a:ext cx="531468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76640"/>
                    <a:ext cx="5314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Ámbit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rsonas implicadas y responsabilidades en el proyec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quipo de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rección de la 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sonal no técn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Ambit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8120" y="1998720"/>
          <a:ext cx="6095880" cy="45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998720"/>
                    <a:ext cx="609588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dministrador vs Hacker. Teoria de la 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dentificar peligros. Check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idenci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pon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asificación en niveles de seguridad. Normaliza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e proteg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comprometida o confiden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lanes de negocio, nominas, contratos, listados passwords, informacion de client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formacion val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cumentacion, desarrollos de I+D, historicos y archiv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Inversiones e infraestruc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onfiguraciones, logs, backups, bbdd, webs, intranets, Acceso a servidores, electrónica y hardware costos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2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4307040"/>
            <a:ext cx="2743200" cy="230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971800" y="1846440"/>
          <a:ext cx="6172200" cy="501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46440"/>
                    <a:ext cx="6172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confidencia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no autorizados a información confid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s públicos a informacion confidencial, por error, mala configuracion o descu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uplantación de usu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servicios confidenciales (correo, bbdd, servidores de acceso, et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stalación de caballos de troy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eniería de seguridad. Mod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nimiento e incid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fer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1371600" cy="13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)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integ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indebida de datos (fallo de permi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ta de integridad (borrado o modificación)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osibilidad de idenficar fuente de da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en la integridad de bases de dato (corrupcio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odificación en archivos de sistema (configuraciones, logs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o corrupción de backu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material restringi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ligros contra la disponi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ida de servicios externos. (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gotamiento de recursos (ancho de banda, disco, socket, etc). (DoS o mala confi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o de infraestructuras generales de red (routing, switches, etc). (DoS, fallo, mala configuración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rucción de configuraciones o servicios. (DoS o Sabotaj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fisico a infraestructura básica. Sabota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sos historicos: Yahoo, Amazon, eBay, etc. Perdid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ecnicas varias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especificacion protoco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gramacion deficiente (buffer overflow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l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eso a los servicios: Fuerza bruta, trojan,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poofing vario (IP, DNS, e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ssion hijac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genieria social y acceso fis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DoS y gus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Riesgos (V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umen de riesg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ceso a informacion sen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S y fallos de progra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l uso de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ra un firewall suficiente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xiste algo suficiente por si mismo para garantizar la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Introducció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se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llevar esto a la práct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SO 17799 y BS 77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range Book (DoD EEUU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ERT Security Guide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as gu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zando sub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mas importantes y comu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so de los recursos del sistem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uentas de usuario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otección de la informa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legal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general de los sistemas informáticos en producción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backup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control de acce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y permisos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física (*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280" y="3959280"/>
            <a:ext cx="30481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ccesos 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ducación en el ámbito de la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revencion y detección de v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an de continuidad de nego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passw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seño. Vamos allá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subpolíticas (continu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seguridad perimetral interna de los sistema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terven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incid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alta disponibilidad y redundanc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guardias 24x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itica de gestion de recursos informá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monitoriz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lítica de encriptación y ocultación de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lásico Ing. del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71800" y="2158920"/>
          <a:ext cx="5334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58920"/>
                    <a:ext cx="5334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59984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I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124080" y="2971800"/>
          <a:ext cx="571500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971800"/>
                    <a:ext cx="571500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geniería de Seguridad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40381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delo C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97120" y="1981080"/>
          <a:ext cx="64468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7120" y="1981080"/>
                    <a:ext cx="64468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es una Politica de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La seguridad obtenida sólo con medios técnicos es limitada”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i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in técnica que la respalde, la seguridad es papel mojado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”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informa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ganiz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 Que es ? (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es un firew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Tecnicos: Man in the middle, spoofing, autenticación débi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allos no tecnicos: Señora de la limpieza, fallos humanos, mal diseño, poco control en la organización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evin Midn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¿¡ QUE ES !? (III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Que es una política de segurida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usiones varias al respe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onjunto de documentos, con un orden y una sistematizació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cribe paso a paso los distintos elementos de una politica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talla riesgos y pelig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o protegerse frente a esos riesgos, medidas a tomar y detalles de esas medi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medidas tomar frente a posibles incidenc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Que hacer en el peor de los 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álisis. Que es (IV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a Politica de Seguridad no se vende ni se comp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 existen productos que hagan to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seguridad se vende con el mie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l riesgo es real, las consecuencias divers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gura del Consultor / Tecnico de Segur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171288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1Z</dcterms:modified>
  <cp:revision>33</cp:revision>
  <dc:subject/>
  <dc:title>Políticas de Seguridad en entornos GNU</dc:title>
</cp:coreProperties>
</file>