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361-0E54-41F2-8772-980DBE20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9B6-BE5C-44A0-8339-FAD18EA2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59E-5DC5-4C76-9CC6-F5603087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58BF-4E8D-48B5-B6B9-F6EAF041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CC96-0AD6-4C74-8809-6BFD1A7A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21A1-80FB-4E7E-B63A-23694BA8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DC7B-4ED3-4DE9-945F-FDD31818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1478-4986-4C08-B6F9-052565DD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2DB3-30C9-41B1-BC69-5DF66DCD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5971-224C-4B14-910B-DBFEC848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E323-66BE-4F6B-BF00-8951D066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846-3C8B-46F4-B027-C407DF79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BBF5-2F2B-4D19-B7A0-48DC613A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3F57-F889-43EA-B1AF-CAB2A506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36B1-969F-4DA6-BE6C-497A96BE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F181-7A33-45AF-8799-EC3B6535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055D-0AAA-4585-8CD1-12047F6C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BCF2-C278-44B6-BA7C-FD580522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DFF-4F0A-44A1-8794-662A8FA4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F86-1EE3-47FC-89A4-1D0D6932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466-6B47-4D36-86D7-2DB9689A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266-767D-47C5-8ED6-9293E407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3F7-FE41-4E99-ACEF-A32029BE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9F5-5287-4EE5-92F9-40E3192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015E-D335-4758-8930-3D0D4956E2E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BBE9-355F-4A92-BC63-3E2C5BD1B9F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neworder.box.sk/subject.php?subject=SMS" TargetMode="External"/><Relationship Id="rId2" Type="http://schemas.openxmlformats.org/officeDocument/2006/relationships/hyperlink" Target="http://neworder.box.sk/user.php?name=The_MadMan" TargetMode="External"/><Relationship Id="rId3" Type="http://schemas.openxmlformats.org/officeDocument/2006/relationships/hyperlink" Target="http://neworder.box.sk/www.computerworld.com/storyba/0,4125,NAV47_STO69064,00.html%22" TargetMode="External"/><Relationship Id="rId4" Type="http://schemas.openxmlformats.org/officeDocument/2006/relationships/hyperlink" Target="http://neworder.box.sk/board.php?did=edge3512" TargetMode="External"/><Relationship Id="rId5" Type="http://schemas.openxmlformats.org/officeDocument/2006/relationships/hyperlink" Target="http://neworder.box.sk/board.php?did=edge3512&amp;newre=0" TargetMode="External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781680" y="1981080"/>
          <a:ext cx="190512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190512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olíticas de Seguridad en entornos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1120" y="26665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Sancho Ler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slerena@gnuse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267080"/>
            <a:ext cx="548640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rebuchet MS"/>
              </a:rPr>
              <a:t>"Software Libre" es cuestión de libertad, no de precio. "Free" en "free software" es una palabra que debe ser traducida como "libre" tal como en "libertad de expresión" ("Free speech"); no como "Gratis" como en "cerveza gratuita“ (“Free beer”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i="1" lang="es-ES" sz="1200" spc="-1" strike="noStrike">
                <a:solidFill>
                  <a:srgbClr val="ffffff"/>
                </a:solidFill>
                <a:latin typeface="Arial Unicode MS"/>
              </a:rPr>
              <a:t>www.gnu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886200" cy="30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4808520" y="3429000"/>
          <a:ext cx="4335480" cy="32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3429000"/>
                    <a:ext cx="43354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NU y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iferentes tecnologí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e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plicaciones fuera de entornos crític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lternativas de bajo cos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uncionalidades más flexib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3244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vs Práctica en la segu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alta de conocimien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risas y falta de profesionalida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GUI’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pacidad de Organización y de escalabil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 Es GNU Seguro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ódigo Abier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4589640"/>
            <a:ext cx="22096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buen día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124080" y="2800440"/>
          <a:ext cx="60199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800440"/>
                    <a:ext cx="60199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5308560"/>
            <a:ext cx="27432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9880" y="2419200"/>
          <a:ext cx="533412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419200"/>
                    <a:ext cx="533412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746440" y="1752480"/>
            <a:ext cx="311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kenwood.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8120" y="2941560"/>
          <a:ext cx="6095880" cy="39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941560"/>
                    <a:ext cx="6095880" cy="39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8954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ityba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-53352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124080" y="2282760"/>
          <a:ext cx="601992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82760"/>
                    <a:ext cx="601992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048120" y="16002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anon.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29160" y="2514600"/>
            <a:ext cx="5514840" cy="4343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14600" y="1676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securecreditcard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772160" y="1638360"/>
            <a:ext cx="4371840" cy="5219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23880" y="1676520"/>
            <a:ext cx="609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exodus.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64080" y="1752480"/>
            <a:ext cx="4579920" cy="510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17640" y="2209680"/>
            <a:ext cx="32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comntel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1. Introduc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2. Políticas de 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Dise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3. Implement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Arquitectura de redes segu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) Firewall. Netfil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speccion de es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iltr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Cade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odul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HA con VRR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V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24560" y="1952640"/>
            <a:ext cx="4519440" cy="4905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16200" y="2209680"/>
            <a:ext cx="21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www.fox.d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4741920"/>
            <a:ext cx="32767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Un poco de miedo I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unas noticias sobr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ffffff"/>
                </a:solidFill>
                <a:latin typeface="Arial"/>
              </a:rPr>
              <a:t>(neworder.box.sk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6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24080" y="2666880"/>
            <a:ext cx="5791320" cy="4037400"/>
            <a:chOff x="3124080" y="2666880"/>
            <a:chExt cx="5791320" cy="4037400"/>
          </a:xfrm>
        </p:grpSpPr>
        <p:sp>
          <p:nvSpPr>
            <p:cNvPr id="191" name=""/>
            <p:cNvSpPr/>
            <p:nvPr/>
          </p:nvSpPr>
          <p:spPr>
            <a:xfrm>
              <a:off x="3124080" y="2666880"/>
              <a:ext cx="1256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124080" y="2666880"/>
              <a:ext cx="5791320" cy="4037400"/>
              <a:chOff x="3124080" y="2666880"/>
              <a:chExt cx="5791320" cy="4037400"/>
            </a:xfrm>
          </p:grpSpPr>
          <p:sp>
            <p:nvSpPr>
              <p:cNvPr id="193" name=""/>
              <p:cNvSpPr/>
              <p:nvPr/>
            </p:nvSpPr>
            <p:spPr>
              <a:xfrm>
                <a:off x="3124080" y="2666880"/>
                <a:ext cx="5791320" cy="403740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3124080" y="2666880"/>
                <a:ext cx="5791320" cy="4035240"/>
                <a:chOff x="3124080" y="2666880"/>
                <a:chExt cx="5791320" cy="40352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124080" y="2666880"/>
                  <a:ext cx="360" cy="360"/>
                </a:xfrm>
                <a:prstGeom prst="rect">
                  <a:avLst/>
                </a:prstGeom>
                <a:solidFill>
                  <a:srgbClr val="00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3124080" y="2666880"/>
                  <a:ext cx="5791320" cy="4035240"/>
                  <a:chOff x="3124080" y="2666880"/>
                  <a:chExt cx="5791320" cy="403524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3124080" y="2666880"/>
                    <a:ext cx="5791320" cy="930960"/>
                    <a:chOff x="3124080" y="2666880"/>
                    <a:chExt cx="5791320" cy="930960"/>
                  </a:xfrm>
                </p:grpSpPr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3124080" y="2666880"/>
                      <a:ext cx="5791320" cy="9309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 security pros learn to beat hackers at their own game</a:t>
                      </a:r>
                      <a:br>
                        <a:rPr sz="1400"/>
                      </a:br>
                      <a:r>
                        <a:rPr b="1" lang="en-US" sz="1000" spc="-1" strike="noStrike" u="sng">
                          <a:solidFill>
                            <a:srgbClr val="800000"/>
                          </a:solidFill>
                          <a:uFillTx/>
                          <a:latin typeface="Verdana"/>
                          <a:hlinkClick r:id="rId1"/>
                        </a:rPr>
                        <a:t>@ SMS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 Mar 14 2002 - 01:26 EST</a:t>
                      </a: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3124080" y="3598560"/>
                    <a:ext cx="5791320" cy="3103560"/>
                    <a:chOff x="3124080" y="3598560"/>
                    <a:chExt cx="5791320" cy="310356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3124080" y="3598560"/>
                      <a:ext cx="5791320" cy="3103560"/>
                    </a:xfrm>
                    <a:prstGeom prst="rect">
                      <a:avLst/>
                    </a:prstGeom>
                    <a:solidFill>
                      <a:srgbClr val="00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2"/>
                        </a:rPr>
                        <a:t>The_MadMa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rites: Corporate security and IT professionals got a chance last week to think like hackers so they could learn how to better prevent unauthorized users from gaining access to their networks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than a dozen computer specialists from across the country took part in an intensive five-day "boot camp" offered by New York-based Ernst &amp; Young LLP on the defense of enterprise networks. They paid </a:t>
                      </a:r>
                      <a:r>
                        <a:rPr b="1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5,000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piece for the training here.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3"/>
                        </a:rPr>
                        <a:t>Read More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4"/>
                        </a:rPr>
                        <a:t>read com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0) | </a:t>
                      </a:r>
                      <a:r>
                        <a:rPr b="0" lang="en-US" sz="1400" spc="-1" strike="noStrike" u="sng">
                          <a:solidFill>
                            <a:srgbClr val="800000"/>
                          </a:solidFill>
                          <a:uFillTx/>
                          <a:latin typeface="Arial"/>
                          <a:hlinkClick r:id="rId5"/>
                        </a:rPr>
                        <a:t>write comment</a:t>
                      </a:r>
                      <a:br>
                        <a:rPr sz="1400"/>
                      </a:br>
                      <a:r>
                        <a:rPr b="0" lang="en-US" sz="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0" y="4392720"/>
            <a:ext cx="26668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a seguridad no es...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819160" y="5181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un firewall “tonto” (</a:t>
            </a: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Filtrado Simpl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i tampoco un  Firewall “listo” (</a:t>
            </a: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Filtrado de est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0060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200400" y="1752480"/>
          <a:ext cx="457200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752480"/>
                    <a:ext cx="457200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dice (continuación)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) Seguridad Perimetral (continuac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) IDS. Sn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rquite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Respuest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tegracion de resultad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) Secur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) Gestion y monitorizac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R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ptr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IV. Auditoria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te V. Recursos de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organiz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0" y="1276200"/>
          <a:ext cx="602136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76200"/>
                    <a:ext cx="602136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038480" y="1295280"/>
          <a:ext cx="4272120" cy="31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295280"/>
                    <a:ext cx="427212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895480" y="495288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ncionamiento Algoritm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quitectura real de re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23880"/>
          <a:ext cx="5867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5867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648320" y="4267080"/>
          <a:ext cx="4081320" cy="24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267080"/>
                    <a:ext cx="408132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581280" y="3581280"/>
            <a:ext cx="426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scripciones técn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estion y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26160" y="533520"/>
          <a:ext cx="431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6160" y="533520"/>
                    <a:ext cx="431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2438280"/>
          <a:ext cx="668808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38280"/>
                    <a:ext cx="66880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vanc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838080"/>
            <a:ext cx="4953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.. y prác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!/bin/bas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Checking conectivity with ICMP Ping, VRRPD Companion Scrip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VER="11/03/2002 - v1.0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$2             # Tiempo de parada entre checks, en segundos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$2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_TIME=5          # Si no se especifica, el check es cada 5 segund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# Obtener el PID de los procesos de VRRPD en memori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LISTA_PROCESOS=`ps -A | grep "vrrpd" | tr -s " " | cut -d " " -f 2`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-z "$LISTA_PROCESOS" ]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No VRRP Daemon running, aborting.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xi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P_DESTINO=$1             # IP de comprobacion, pasada como 1# parametr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COMANDO="`ping -c 1 "$IP_DESTINO" | grep '100% packet loss'`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0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while [ "$RES" -eq 0 ];do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if [ ! -z "$COMANDO" ] ;th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Ping fail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Shutting down VRRP daemons "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kill -s 9 $LISTA_PROCES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RES=1;el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echo " Debug: Ping ok"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sleep $SLEEP_TIM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s-ES" sz="800" spc="-1" strike="noStrike">
                <a:solidFill>
                  <a:srgbClr val="ffffff"/>
                </a:solidFill>
                <a:latin typeface="Courier New"/>
              </a:rPr>
              <a:t>fi;done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295280"/>
          <a:ext cx="38098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38098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eorí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. </a:t>
            </a: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ntroduccion a la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2791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NU y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¿ Que es la Seguridad ?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óg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e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Hosts/Aplic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ftware Abierto vs Software Cer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oporte y otros “problema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23:18Z</dcterms:modified>
  <cp:revision>39</cp:revision>
  <dc:subject/>
  <dc:title>Políticas de Seguridad en entornos GNU</dc:title>
</cp:coreProperties>
</file>