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C176-B42D-4C43-9D30-F7FCFC8E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D2E1-DE51-4DA1-AE3C-14694E6A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0046-90F0-46E5-B228-7635AC4D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F1D-A68F-47E2-AD9E-D138B03A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C8D6-49DA-4870-BC05-5AA5CBFC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4C8A-1B89-4281-884A-15BFAC6E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EA5C-D050-4BF8-AA78-1FFA970F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9EA1-FDB3-4916-A421-9DA9380C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E396-C4ED-4FFB-9490-F06ED871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4CF2-4673-4E38-AD0B-E2F953AE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9826-2CE0-431D-8565-4667F038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956-D985-4AD0-9194-47813E65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3F89-FEC7-4B5A-82C8-B04D6D8F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343B-99B6-4A17-B260-0205E649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3C8E-B8A8-4D4B-B0DC-039C640A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3686-2E9A-4F50-A24D-CE479BD6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D87D-CFDF-47C5-A790-5EB7C390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FFA3-C4D8-4278-8DF3-1859472E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C3F-C022-4D6D-9F50-D68FC8AB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02C-0AD9-4A28-9221-DC18EC5C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A356-EA59-48A9-BFBC-21DBBD22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252-BBA4-402E-B3CD-38240BAC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249-43D4-4900-9C45-CDC23497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E6F-971E-4800-9477-67104731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A355-BBC0-44CB-816D-8158D9E36AC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2DDC-A9F3-488B-955C-5D2A9098EA0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1218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V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76720" y="3284640"/>
            <a:ext cx="5627520" cy="35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GNU vs Recursos 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tes en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de perder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17604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$ vs Recursos G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istas de corre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Sopor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ctualizaciones productos de segur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anuales “tecnico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ocumentacion “avanzada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Knowledge 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gunas URL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cert.org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securiteam.com (bugtr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net-security.org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ideahamster.com (politic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eworder.box.sk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RFC 2196 (IETF), gener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BS 7799 (UK Standard), teoric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pen Source Security Testing Methodology Manual (OSSTMM) (ideahamster.com), auditori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Breaking into computer Networks from the Internet (sensepost.com), auditoria/hack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de perder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ursillos de hacking comercial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erramientas “click and go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oros públicos de “hackers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mo ser un hacker en 21 dia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ursos comerciales de productos concret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436640"/>
            <a:ext cx="3672000" cy="26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cc"/>
                </a:solidFill>
                <a:latin typeface="Arial Narrow"/>
              </a:rPr>
              <a:t>FiN</a:t>
            </a:r>
            <a:br>
              <a:rPr sz="9600"/>
            </a:br>
            <a:r>
              <a:rPr b="1" lang="es-ES" sz="1800" spc="-1" strike="noStrike">
                <a:solidFill>
                  <a:srgbClr val="ffffcc"/>
                </a:solidFill>
                <a:latin typeface="Arial Narrow"/>
              </a:rPr>
              <a:t>Version 1.0 Marzo/2002</a:t>
            </a:r>
            <a:endParaRPr b="1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92360" y="1484280"/>
          <a:ext cx="4897440" cy="46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484280"/>
                    <a:ext cx="4897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32:24Z</dcterms:modified>
  <cp:revision>34</cp:revision>
  <dc:subject/>
  <dc:title>Políticas de Seguridad en entornos GNU</dc:title>
</cp:coreProperties>
</file>