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5B1BF6D-ADD5-4EA4-A2D4-0EE050EB09E5}"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0B90D04-C424-458E-8F2F-F8DC04CCB716}"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3B87A8C-641D-4E0B-A66D-F49C63B76853}"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FC7E51E-2CA2-4331-B000-237938EE1774}"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E7E06D2-67DD-4A94-B675-6D6B8FD6AA3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38AF4FA-F4CF-406B-B4D0-14377F492167}"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B536416-2976-4715-BCFA-E3A3124E937D}"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5EF21B-8BBB-4C41-88F9-C4535017A2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67E0FE-662F-43A1-8205-14B4DDEF55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5E43B5-994A-47A9-A7C5-59C0ABF47B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5A36F6-0FF0-4A40-99FF-4AA1E26C67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2262FC-A58A-4069-8F2F-DD1EC85907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84BB2B-E1A0-41F1-8F02-42032BB7CF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A90B68-5324-4334-91D8-F06271A818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9B6706-4C83-4570-92BB-8AC9842C5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90C817-89F8-4E91-8624-6BA2AB7AC9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61C750-3AF6-49D2-929D-2FB548D902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ACF8A7-DF33-452A-8D9B-6C24568FB7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C73684-3F62-4861-88D7-92B83282A4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CEFC00-4F89-4754-8275-F902027DA0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BF36DF-59C4-43D0-AA29-322A576207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76BE39-D324-4719-8604-A63CF391A6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A4DC06-72F6-47C5-85B4-B2A606C59C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6AD2D6-79BF-4C84-9699-09DBC6733E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440467-46EC-4EDD-8139-5438E73A6D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A25B09-4550-4530-BD89-2B4DA5D967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2D76E5-8C25-49E4-A317-42471A623B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7F929F-3984-470E-8051-DFB1B94BA0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30A5AA-E599-4EF5-835B-2EFAA0E7EB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250979-1015-4E37-8E6B-D125EB1772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46942F-A124-4295-A886-F864874C02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7AC1-5D34-4785-8FBB-ADB76FBB3D7B}"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3AB1A-8BE0-448A-87F8-845FF2B2F034}"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43D9ABC6-0F29-4BC2-8151-36C6E58AB8EE}" type="datetime3">
              <a:rPr b="0" lang="en-US" sz="2000" spc="-1" strike="noStrike">
                <a:solidFill>
                  <a:srgbClr val="ffffcc"/>
                </a:solidFill>
                <a:latin typeface="Tahoma"/>
              </a:rPr>
              <a:t>July 30,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