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10080625" cy="7559675"/>
  <p:notesSz cx="7772400" cy="10026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772400" cy="10026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85" name=""/>
          <p:cNvSpPr/>
          <p:nvPr/>
        </p:nvSpPr>
        <p:spPr>
          <a:xfrm>
            <a:off x="1185840" y="4772160"/>
            <a:ext cx="5405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0" y="76176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8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80"/>
                </a:solidFill>
                <a:latin typeface="Arial;Helvetica"/>
              </a:rPr>
              <a:t>Click to move the slide</a:t>
            </a:r>
            <a:endParaRPr b="1" lang="en-US" sz="48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77240" y="4762080"/>
            <a:ext cx="6217560" cy="45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;Helvetic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596960" y="10047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96" name=""/>
          <p:cNvSpPr/>
          <p:nvPr/>
        </p:nvSpPr>
        <p:spPr>
          <a:xfrm>
            <a:off x="1185840" y="4772160"/>
            <a:ext cx="5405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59000" y="952560"/>
            <a:ext cx="5103720" cy="3432240"/>
          </a:xfrm>
          <a:prstGeom prst="rect">
            <a:avLst/>
          </a:prstGeom>
          <a:ln w="0">
            <a:noFill/>
          </a:ln>
        </p:spPr>
      </p:sp>
      <p:sp>
        <p:nvSpPr>
          <p:cNvPr id="214" name=""/>
          <p:cNvSpPr/>
          <p:nvPr/>
        </p:nvSpPr>
        <p:spPr>
          <a:xfrm>
            <a:off x="1209600" y="4719600"/>
            <a:ext cx="5407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59000" y="952560"/>
            <a:ext cx="5103720" cy="3432240"/>
          </a:xfrm>
          <a:prstGeom prst="rect">
            <a:avLst/>
          </a:prstGeom>
          <a:ln w="0">
            <a:noFill/>
          </a:ln>
        </p:spPr>
      </p:sp>
      <p:sp>
        <p:nvSpPr>
          <p:cNvPr id="216" name=""/>
          <p:cNvSpPr/>
          <p:nvPr/>
        </p:nvSpPr>
        <p:spPr>
          <a:xfrm>
            <a:off x="1209600" y="4719600"/>
            <a:ext cx="5407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59000" y="952560"/>
            <a:ext cx="5103720" cy="3432240"/>
          </a:xfrm>
          <a:prstGeom prst="rect">
            <a:avLst/>
          </a:prstGeom>
          <a:ln w="0">
            <a:noFill/>
          </a:ln>
        </p:spPr>
      </p:sp>
      <p:sp>
        <p:nvSpPr>
          <p:cNvPr id="218" name=""/>
          <p:cNvSpPr/>
          <p:nvPr/>
        </p:nvSpPr>
        <p:spPr>
          <a:xfrm>
            <a:off x="1209600" y="4719600"/>
            <a:ext cx="5407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359000" y="952560"/>
            <a:ext cx="5103720" cy="3432240"/>
          </a:xfrm>
          <a:prstGeom prst="rect">
            <a:avLst/>
          </a:prstGeom>
          <a:ln w="0">
            <a:noFill/>
          </a:ln>
        </p:spPr>
      </p:sp>
      <p:sp>
        <p:nvSpPr>
          <p:cNvPr id="220" name=""/>
          <p:cNvSpPr/>
          <p:nvPr/>
        </p:nvSpPr>
        <p:spPr>
          <a:xfrm>
            <a:off x="1209600" y="4719600"/>
            <a:ext cx="5407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59000" y="952560"/>
            <a:ext cx="5103720" cy="3432240"/>
          </a:xfrm>
          <a:prstGeom prst="rect">
            <a:avLst/>
          </a:prstGeom>
          <a:ln w="0">
            <a:noFill/>
          </a:ln>
        </p:spPr>
      </p:sp>
      <p:sp>
        <p:nvSpPr>
          <p:cNvPr id="222" name=""/>
          <p:cNvSpPr/>
          <p:nvPr/>
        </p:nvSpPr>
        <p:spPr>
          <a:xfrm>
            <a:off x="1209600" y="4719600"/>
            <a:ext cx="5407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359000" y="952560"/>
            <a:ext cx="5103720" cy="3432240"/>
          </a:xfrm>
          <a:prstGeom prst="rect">
            <a:avLst/>
          </a:prstGeom>
          <a:ln w="0">
            <a:noFill/>
          </a:ln>
        </p:spPr>
      </p:sp>
      <p:sp>
        <p:nvSpPr>
          <p:cNvPr id="224" name=""/>
          <p:cNvSpPr/>
          <p:nvPr/>
        </p:nvSpPr>
        <p:spPr>
          <a:xfrm>
            <a:off x="1209600" y="4719600"/>
            <a:ext cx="5407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359000" y="952560"/>
            <a:ext cx="5103720" cy="3432240"/>
          </a:xfrm>
          <a:prstGeom prst="rect">
            <a:avLst/>
          </a:prstGeom>
          <a:ln w="0">
            <a:noFill/>
          </a:ln>
        </p:spPr>
      </p:sp>
      <p:sp>
        <p:nvSpPr>
          <p:cNvPr id="226" name=""/>
          <p:cNvSpPr/>
          <p:nvPr/>
        </p:nvSpPr>
        <p:spPr>
          <a:xfrm>
            <a:off x="1209600" y="4719600"/>
            <a:ext cx="5407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59000" y="952560"/>
            <a:ext cx="5103720" cy="3432240"/>
          </a:xfrm>
          <a:prstGeom prst="rect">
            <a:avLst/>
          </a:prstGeom>
          <a:ln w="0">
            <a:noFill/>
          </a:ln>
        </p:spPr>
      </p:sp>
      <p:sp>
        <p:nvSpPr>
          <p:cNvPr id="228" name=""/>
          <p:cNvSpPr/>
          <p:nvPr/>
        </p:nvSpPr>
        <p:spPr>
          <a:xfrm>
            <a:off x="1209600" y="4719600"/>
            <a:ext cx="5407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359000" y="952560"/>
            <a:ext cx="5103720" cy="3432240"/>
          </a:xfrm>
          <a:prstGeom prst="rect">
            <a:avLst/>
          </a:prstGeom>
          <a:ln w="0">
            <a:noFill/>
          </a:ln>
        </p:spPr>
      </p:sp>
      <p:sp>
        <p:nvSpPr>
          <p:cNvPr id="230" name=""/>
          <p:cNvSpPr/>
          <p:nvPr/>
        </p:nvSpPr>
        <p:spPr>
          <a:xfrm>
            <a:off x="1209600" y="4719600"/>
            <a:ext cx="5407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359000" y="952560"/>
            <a:ext cx="5103720" cy="3432240"/>
          </a:xfrm>
          <a:prstGeom prst="rect">
            <a:avLst/>
          </a:prstGeom>
          <a:ln w="0">
            <a:noFill/>
          </a:ln>
        </p:spPr>
      </p:sp>
      <p:sp>
        <p:nvSpPr>
          <p:cNvPr id="232" name=""/>
          <p:cNvSpPr/>
          <p:nvPr/>
        </p:nvSpPr>
        <p:spPr>
          <a:xfrm>
            <a:off x="1209600" y="4719600"/>
            <a:ext cx="5407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359000" y="952560"/>
            <a:ext cx="5103720" cy="3432240"/>
          </a:xfrm>
          <a:prstGeom prst="rect">
            <a:avLst/>
          </a:prstGeom>
          <a:ln w="0">
            <a:noFill/>
          </a:ln>
        </p:spPr>
      </p:sp>
      <p:sp>
        <p:nvSpPr>
          <p:cNvPr id="198" name=""/>
          <p:cNvSpPr/>
          <p:nvPr/>
        </p:nvSpPr>
        <p:spPr>
          <a:xfrm>
            <a:off x="1209600" y="4719600"/>
            <a:ext cx="5407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59000" y="952560"/>
            <a:ext cx="5103720" cy="3432240"/>
          </a:xfrm>
          <a:prstGeom prst="rect">
            <a:avLst/>
          </a:prstGeom>
          <a:ln w="0">
            <a:noFill/>
          </a:ln>
        </p:spPr>
      </p:sp>
      <p:sp>
        <p:nvSpPr>
          <p:cNvPr id="234" name=""/>
          <p:cNvSpPr/>
          <p:nvPr/>
        </p:nvSpPr>
        <p:spPr>
          <a:xfrm>
            <a:off x="1209600" y="4719600"/>
            <a:ext cx="5407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359000" y="952560"/>
            <a:ext cx="5103720" cy="3432240"/>
          </a:xfrm>
          <a:prstGeom prst="rect">
            <a:avLst/>
          </a:prstGeom>
          <a:ln w="0">
            <a:noFill/>
          </a:ln>
        </p:spPr>
      </p:sp>
      <p:sp>
        <p:nvSpPr>
          <p:cNvPr id="236" name=""/>
          <p:cNvSpPr/>
          <p:nvPr/>
        </p:nvSpPr>
        <p:spPr>
          <a:xfrm>
            <a:off x="1209600" y="4719600"/>
            <a:ext cx="5407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359000" y="952560"/>
            <a:ext cx="5103720" cy="3432240"/>
          </a:xfrm>
          <a:prstGeom prst="rect">
            <a:avLst/>
          </a:prstGeom>
          <a:ln w="0">
            <a:noFill/>
          </a:ln>
        </p:spPr>
      </p:sp>
      <p:sp>
        <p:nvSpPr>
          <p:cNvPr id="238" name=""/>
          <p:cNvSpPr/>
          <p:nvPr/>
        </p:nvSpPr>
        <p:spPr>
          <a:xfrm>
            <a:off x="1209600" y="4719600"/>
            <a:ext cx="5407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596960" y="10047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240" name=""/>
          <p:cNvSpPr/>
          <p:nvPr/>
        </p:nvSpPr>
        <p:spPr>
          <a:xfrm>
            <a:off x="1185840" y="4772160"/>
            <a:ext cx="5405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359000" y="952560"/>
            <a:ext cx="5103720" cy="3432240"/>
          </a:xfrm>
          <a:prstGeom prst="rect">
            <a:avLst/>
          </a:prstGeom>
          <a:ln w="0">
            <a:noFill/>
          </a:ln>
        </p:spPr>
      </p:sp>
      <p:sp>
        <p:nvSpPr>
          <p:cNvPr id="200" name=""/>
          <p:cNvSpPr/>
          <p:nvPr/>
        </p:nvSpPr>
        <p:spPr>
          <a:xfrm>
            <a:off x="1209600" y="4719600"/>
            <a:ext cx="5407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59000" y="952560"/>
            <a:ext cx="5103720" cy="3432240"/>
          </a:xfrm>
          <a:prstGeom prst="rect">
            <a:avLst/>
          </a:prstGeom>
          <a:ln w="0">
            <a:noFill/>
          </a:ln>
        </p:spPr>
      </p:sp>
      <p:sp>
        <p:nvSpPr>
          <p:cNvPr id="202" name=""/>
          <p:cNvSpPr/>
          <p:nvPr/>
        </p:nvSpPr>
        <p:spPr>
          <a:xfrm>
            <a:off x="1209600" y="4719600"/>
            <a:ext cx="5407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59000" y="952560"/>
            <a:ext cx="5103720" cy="3432240"/>
          </a:xfrm>
          <a:prstGeom prst="rect">
            <a:avLst/>
          </a:prstGeom>
          <a:ln w="0">
            <a:noFill/>
          </a:ln>
        </p:spPr>
      </p:sp>
      <p:sp>
        <p:nvSpPr>
          <p:cNvPr id="204" name=""/>
          <p:cNvSpPr/>
          <p:nvPr/>
        </p:nvSpPr>
        <p:spPr>
          <a:xfrm>
            <a:off x="1209600" y="4719600"/>
            <a:ext cx="5407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59000" y="952560"/>
            <a:ext cx="5103720" cy="3432240"/>
          </a:xfrm>
          <a:prstGeom prst="rect">
            <a:avLst/>
          </a:prstGeom>
          <a:ln w="0">
            <a:noFill/>
          </a:ln>
        </p:spPr>
      </p:sp>
      <p:sp>
        <p:nvSpPr>
          <p:cNvPr id="206" name=""/>
          <p:cNvSpPr/>
          <p:nvPr/>
        </p:nvSpPr>
        <p:spPr>
          <a:xfrm>
            <a:off x="1209600" y="4719600"/>
            <a:ext cx="5407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59000" y="952560"/>
            <a:ext cx="5103720" cy="3432240"/>
          </a:xfrm>
          <a:prstGeom prst="rect">
            <a:avLst/>
          </a:prstGeom>
          <a:ln w="0">
            <a:noFill/>
          </a:ln>
        </p:spPr>
      </p:sp>
      <p:sp>
        <p:nvSpPr>
          <p:cNvPr id="208" name=""/>
          <p:cNvSpPr/>
          <p:nvPr/>
        </p:nvSpPr>
        <p:spPr>
          <a:xfrm>
            <a:off x="1209600" y="4719600"/>
            <a:ext cx="5407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59000" y="952560"/>
            <a:ext cx="5103720" cy="3432240"/>
          </a:xfrm>
          <a:prstGeom prst="rect">
            <a:avLst/>
          </a:prstGeom>
          <a:ln w="0">
            <a:noFill/>
          </a:ln>
        </p:spPr>
      </p:sp>
      <p:sp>
        <p:nvSpPr>
          <p:cNvPr id="210" name=""/>
          <p:cNvSpPr/>
          <p:nvPr/>
        </p:nvSpPr>
        <p:spPr>
          <a:xfrm>
            <a:off x="1209600" y="4719600"/>
            <a:ext cx="5407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359000" y="952560"/>
            <a:ext cx="5103720" cy="3432240"/>
          </a:xfrm>
          <a:prstGeom prst="rect">
            <a:avLst/>
          </a:prstGeom>
          <a:ln w="0">
            <a:noFill/>
          </a:ln>
        </p:spPr>
      </p:sp>
      <p:sp>
        <p:nvSpPr>
          <p:cNvPr id="212" name=""/>
          <p:cNvSpPr/>
          <p:nvPr/>
        </p:nvSpPr>
        <p:spPr>
          <a:xfrm>
            <a:off x="1209600" y="4719600"/>
            <a:ext cx="5407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80"/>
              </a:solidFill>
              <a:latin typeface="Arial;Helvetic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80"/>
              </a:solidFill>
              <a:latin typeface="Arial;Helvetic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704000" y="0"/>
            <a:ext cx="2241720" cy="2644920"/>
          </a:xfrm>
          <a:custGeom>
            <a:avLst/>
            <a:gdLst/>
            <a:ahLst/>
            <a:rect l="l" t="t" r="r" b="b"/>
            <a:pathLst>
              <a:path w="6233" h="7351">
                <a:moveTo>
                  <a:pt x="0" y="0"/>
                </a:moveTo>
                <a:lnTo>
                  <a:pt x="4174" y="7350"/>
                </a:lnTo>
                <a:lnTo>
                  <a:pt x="6232" y="0"/>
                </a:lnTo>
                <a:lnTo>
                  <a:pt x="59" y="0"/>
                </a:lnTo>
                <a:lnTo>
                  <a:pt x="0" y="0"/>
                </a:lnTo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1" name=""/>
          <p:cNvSpPr/>
          <p:nvPr/>
        </p:nvSpPr>
        <p:spPr>
          <a:xfrm>
            <a:off x="8424720" y="3313080"/>
            <a:ext cx="1522440" cy="1575000"/>
          </a:xfrm>
          <a:custGeom>
            <a:avLst/>
            <a:gdLst/>
            <a:ahLst/>
            <a:rect l="l" t="t" r="r" b="b"/>
            <a:pathLst>
              <a:path w="4233" h="4381">
                <a:moveTo>
                  <a:pt x="0" y="0"/>
                </a:moveTo>
                <a:lnTo>
                  <a:pt x="2834" y="4380"/>
                </a:lnTo>
                <a:lnTo>
                  <a:pt x="4232" y="0"/>
                </a:lnTo>
                <a:lnTo>
                  <a:pt x="40" y="0"/>
                </a:lnTo>
                <a:lnTo>
                  <a:pt x="0" y="0"/>
                </a:lnTo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2" name=""/>
          <p:cNvSpPr/>
          <p:nvPr/>
        </p:nvSpPr>
        <p:spPr>
          <a:xfrm>
            <a:off x="8742240" y="5726160"/>
            <a:ext cx="1204920" cy="1216080"/>
          </a:xfrm>
          <a:custGeom>
            <a:avLst/>
            <a:gdLst/>
            <a:ahLst/>
            <a:rect l="l" t="t" r="r" b="b"/>
            <a:pathLst>
              <a:path w="3352" h="3382">
                <a:moveTo>
                  <a:pt x="0" y="0"/>
                </a:moveTo>
                <a:lnTo>
                  <a:pt x="2244" y="3381"/>
                </a:lnTo>
                <a:lnTo>
                  <a:pt x="3351" y="0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3" name=""/>
          <p:cNvSpPr/>
          <p:nvPr/>
        </p:nvSpPr>
        <p:spPr>
          <a:xfrm>
            <a:off x="7835760" y="0"/>
            <a:ext cx="2241720" cy="2644920"/>
          </a:xfrm>
          <a:custGeom>
            <a:avLst/>
            <a:gdLst/>
            <a:ahLst/>
            <a:rect l="l" t="t" r="r" b="b"/>
            <a:pathLst>
              <a:path w="6233" h="7351">
                <a:moveTo>
                  <a:pt x="0" y="0"/>
                </a:moveTo>
                <a:lnTo>
                  <a:pt x="4174" y="7350"/>
                </a:lnTo>
                <a:lnTo>
                  <a:pt x="6232" y="0"/>
                </a:lnTo>
                <a:lnTo>
                  <a:pt x="59" y="0"/>
                </a:lnTo>
                <a:lnTo>
                  <a:pt x="0" y="0"/>
                </a:lnTo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4" name=""/>
          <p:cNvSpPr/>
          <p:nvPr/>
        </p:nvSpPr>
        <p:spPr>
          <a:xfrm>
            <a:off x="8556480" y="3313080"/>
            <a:ext cx="1522440" cy="1575000"/>
          </a:xfrm>
          <a:custGeom>
            <a:avLst/>
            <a:gdLst/>
            <a:ahLst/>
            <a:rect l="l" t="t" r="r" b="b"/>
            <a:pathLst>
              <a:path w="4233" h="4381">
                <a:moveTo>
                  <a:pt x="0" y="0"/>
                </a:moveTo>
                <a:lnTo>
                  <a:pt x="2834" y="4380"/>
                </a:lnTo>
                <a:lnTo>
                  <a:pt x="4232" y="0"/>
                </a:lnTo>
                <a:lnTo>
                  <a:pt x="40" y="0"/>
                </a:lnTo>
                <a:lnTo>
                  <a:pt x="0" y="0"/>
                </a:lnTo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5" name=""/>
          <p:cNvSpPr/>
          <p:nvPr/>
        </p:nvSpPr>
        <p:spPr>
          <a:xfrm>
            <a:off x="8872560" y="5726160"/>
            <a:ext cx="1204920" cy="1216080"/>
          </a:xfrm>
          <a:custGeom>
            <a:avLst/>
            <a:gdLst/>
            <a:ahLst/>
            <a:rect l="l" t="t" r="r" b="b"/>
            <a:pathLst>
              <a:path w="3352" h="3382">
                <a:moveTo>
                  <a:pt x="0" y="0"/>
                </a:moveTo>
                <a:lnTo>
                  <a:pt x="2244" y="3381"/>
                </a:lnTo>
                <a:lnTo>
                  <a:pt x="3351" y="0"/>
                </a:lnTo>
                <a:lnTo>
                  <a:pt x="32" y="0"/>
                </a:lnTo>
                <a:lnTo>
                  <a:pt x="0" y="0"/>
                </a:lnTo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6" name=""/>
          <p:cNvSpPr/>
          <p:nvPr/>
        </p:nvSpPr>
        <p:spPr>
          <a:xfrm>
            <a:off x="498600" y="0"/>
            <a:ext cx="188640" cy="7558200"/>
          </a:xfrm>
          <a:custGeom>
            <a:avLst/>
            <a:gdLst>
              <a:gd name="textAreaLeft" fmla="*/ 360 w 188640"/>
              <a:gd name="textAreaRight" fmla="*/ 188280 w 188640"/>
              <a:gd name="textAreaTop" fmla="*/ 360 h 7558200"/>
              <a:gd name="textAreaBottom" fmla="*/ 7557840 h 7558200"/>
            </a:gdLst>
            <a:ahLst/>
            <a:rect l="textAreaLeft" t="textAreaTop" r="textAreaRight" b="textAreaBottom"/>
            <a:pathLst>
              <a:path w="21600" h="863835">
                <a:moveTo>
                  <a:pt x="180" y="0"/>
                </a:moveTo>
                <a:arcTo wR="180" hR="180" stAng="16200000" swAng="-5400000"/>
                <a:lnTo>
                  <a:pt x="0" y="863655"/>
                </a:lnTo>
                <a:arcTo wR="180" hR="180" stAng="10800000" swAng="-5400000"/>
                <a:lnTo>
                  <a:pt x="21420" y="863835"/>
                </a:lnTo>
                <a:arcTo wR="180" hR="180" stAng="5400000" swAng="-5400000"/>
                <a:lnTo>
                  <a:pt x="21600" y="180"/>
                </a:lnTo>
                <a:arcTo wR="180" hR="180" stAng="0" swAng="-5400000"/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7" name=""/>
          <p:cNvSpPr/>
          <p:nvPr/>
        </p:nvSpPr>
        <p:spPr>
          <a:xfrm>
            <a:off x="614520" y="0"/>
            <a:ext cx="188640" cy="7558200"/>
          </a:xfrm>
          <a:custGeom>
            <a:avLst/>
            <a:gdLst>
              <a:gd name="textAreaLeft" fmla="*/ 360 w 188640"/>
              <a:gd name="textAreaRight" fmla="*/ 188280 w 188640"/>
              <a:gd name="textAreaTop" fmla="*/ 360 h 7558200"/>
              <a:gd name="textAreaBottom" fmla="*/ 7557840 h 7558200"/>
            </a:gdLst>
            <a:ahLst/>
            <a:rect l="textAreaLeft" t="textAreaTop" r="textAreaRight" b="textAreaBottom"/>
            <a:pathLst>
              <a:path w="21600" h="863835">
                <a:moveTo>
                  <a:pt x="180" y="0"/>
                </a:moveTo>
                <a:arcTo wR="180" hR="180" stAng="16200000" swAng="-5400000"/>
                <a:lnTo>
                  <a:pt x="0" y="863655"/>
                </a:lnTo>
                <a:arcTo wR="180" hR="180" stAng="10800000" swAng="-5400000"/>
                <a:lnTo>
                  <a:pt x="21420" y="863835"/>
                </a:lnTo>
                <a:arcTo wR="180" hR="180" stAng="5400000" swAng="-5400000"/>
                <a:lnTo>
                  <a:pt x="21600" y="180"/>
                </a:lnTo>
                <a:arcTo wR="180" hR="180" stAng="0" swAng="-5400000"/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80"/>
                </a:solidFill>
                <a:latin typeface="Arial;Helvetica"/>
              </a:rPr>
              <a:t>Click to edit the title text format</a:t>
            </a:r>
            <a:endParaRPr b="1" lang="en-US" sz="48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Ba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;Time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Ba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;Time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Ba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;Time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Ba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;Time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800000"/>
              </a:buClr>
              <a:buSzPct val="75000"/>
              <a:buFont typeface="StarBa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;Time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StarBa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;Time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StarBa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;Time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80"/>
                </a:solidFill>
                <a:latin typeface="Arial;Helvetica"/>
              </a:rPr>
              <a:t>Click to edit the title text format</a:t>
            </a:r>
            <a:endParaRPr b="1" lang="en-US" sz="48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;Time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;Times"/>
            </a:endParaRPr>
          </a:p>
          <a:p>
            <a:pPr lvl="1" marL="457200" indent="0"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;Time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;Times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800000"/>
              </a:buClr>
              <a:buSzPct val="75000"/>
              <a:buFont typeface="StarBa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;Time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;Times"/>
            </a:endParaRPr>
          </a:p>
          <a:p>
            <a:pPr lvl="3" marL="1371600" algn="ctr">
              <a:lnSpc>
                <a:spcPct val="85000"/>
              </a:lnSpc>
              <a:spcBef>
                <a:spcPts val="499"/>
              </a:spcBef>
              <a:buClr>
                <a:srgbClr val="800000"/>
              </a:buClr>
              <a:buSzPct val="75000"/>
              <a:buFont typeface="StarBa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;Time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;Times"/>
            </a:endParaRPr>
          </a:p>
          <a:p>
            <a:pPr lvl="4" marL="1828800" algn="ctr">
              <a:lnSpc>
                <a:spcPct val="85000"/>
              </a:lnSpc>
              <a:spcBef>
                <a:spcPts val="499"/>
              </a:spcBef>
              <a:buClr>
                <a:srgbClr val="800000"/>
              </a:buClr>
              <a:buSzPct val="75000"/>
              <a:buFont typeface="StarBa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;Time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;Time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StarBa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;Time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;Time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StarBa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;Time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;Time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linux.org.pe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linux.org.pe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linux.org.pe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linux.org.pe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linux.org.pe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linux.org.pe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linux.org.pe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linux.org.pe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linux.org.pe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linux.org.pe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linux.org.pe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docs.linux.org.pe/LuCAS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www.linux.org.pe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linux-plug@linux.org.pe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www.linux.org.pe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linux.org.pe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linux.org.pe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linux.org.pe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linux.org.pe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linux.org.pe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linux.org.pe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linux.org.pe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linux.org.pe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65200" y="1833480"/>
            <a:ext cx="916776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25560" y="506520"/>
            <a:ext cx="736920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4476b"/>
                </a:solidFill>
                <a:latin typeface="verdana"/>
              </a:rPr>
              <a:t>Fortalezas de Linux : Flexibilidad</a:t>
            </a:r>
            <a:endParaRPr b="1" lang="en-US" sz="32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130" name=""/>
          <p:cNvSpPr/>
          <p:nvPr/>
        </p:nvSpPr>
        <p:spPr>
          <a:xfrm>
            <a:off x="955800" y="1550880"/>
            <a:ext cx="835344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s posible modificar el sistema operativo para los requerimientos propios. Linux se distribuye con el código fuente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 puede adecuar a las mejores características del hardware y software disponible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 la práctica solo es posible si se dispone de conocimientos suficientes para modificar el kernel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57240" y="6591240"/>
            <a:ext cx="1995480" cy="5778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021440" y="6759720"/>
            <a:ext cx="22068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linux.org.pe</a:t>
            </a:r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133" name=""/>
          <p:cNvSpPr/>
          <p:nvPr/>
        </p:nvSpPr>
        <p:spPr>
          <a:xfrm>
            <a:off x="922320" y="1244520"/>
            <a:ext cx="8064360" cy="60480"/>
          </a:xfrm>
          <a:prstGeom prst="roundRect">
            <a:avLst>
              <a:gd name="adj" fmla="val 2630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25560" y="506520"/>
            <a:ext cx="736920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4476b"/>
                </a:solidFill>
                <a:latin typeface="verdana"/>
              </a:rPr>
              <a:t>Fortalezas de Linux : Licencias</a:t>
            </a:r>
            <a:endParaRPr b="1" lang="en-US" sz="32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135" name=""/>
          <p:cNvSpPr/>
          <p:nvPr/>
        </p:nvSpPr>
        <p:spPr>
          <a:xfrm>
            <a:off x="955800" y="1550880"/>
            <a:ext cx="835344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l estar bajo la licencia GPL, no hay problema de instalar el mismo software en múltiples maquinas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cencia: usuarios ilimitados, instalaciones ilimitadas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in embargo, los productos comerciales que se ejecutan en Linux,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verdana"/>
              </a:rPr>
              <a:t>SI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 están sujetos a restricciones de sus licencias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57240" y="6591240"/>
            <a:ext cx="1995480" cy="577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021440" y="6759720"/>
            <a:ext cx="22068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linux.org.pe</a:t>
            </a:r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138" name=""/>
          <p:cNvSpPr/>
          <p:nvPr/>
        </p:nvSpPr>
        <p:spPr>
          <a:xfrm>
            <a:off x="922320" y="1244520"/>
            <a:ext cx="8064360" cy="60480"/>
          </a:xfrm>
          <a:prstGeom prst="roundRect">
            <a:avLst>
              <a:gd name="adj" fmla="val 2630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25560" y="506520"/>
            <a:ext cx="736920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4476b"/>
                </a:solidFill>
                <a:latin typeface="verdana"/>
              </a:rPr>
              <a:t>Fortalezas de Linux : Estabilidad</a:t>
            </a:r>
            <a:endParaRPr b="1" lang="en-US" sz="32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140" name=""/>
          <p:cNvSpPr/>
          <p:nvPr/>
        </p:nvSpPr>
        <p:spPr>
          <a:xfrm>
            <a:off x="955800" y="1550880"/>
            <a:ext cx="835344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 se cuelga !!! :)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nux tiene la experiencia de un cuarto de siglo de los sistemas Unix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al como IBM lo dice, Linux es estable, funcional y ofrece valor. Al igual que los sistemas Unix propietarios y mainframes, Linux es muy estable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l modelo de OpenSource de Linux asegura que los bugs sean detectados y corregidos rápidamente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57240" y="6591240"/>
            <a:ext cx="1995480" cy="5778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021440" y="6759720"/>
            <a:ext cx="22068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linux.org.pe</a:t>
            </a:r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143" name=""/>
          <p:cNvSpPr/>
          <p:nvPr/>
        </p:nvSpPr>
        <p:spPr>
          <a:xfrm>
            <a:off x="922320" y="1244520"/>
            <a:ext cx="8064360" cy="60480"/>
          </a:xfrm>
          <a:prstGeom prst="roundRect">
            <a:avLst>
              <a:gd name="adj" fmla="val 2630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25560" y="506520"/>
            <a:ext cx="736920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4476b"/>
                </a:solidFill>
                <a:latin typeface="verdana"/>
              </a:rPr>
              <a:t>Fortalezas de Linux : Performance</a:t>
            </a:r>
            <a:endParaRPr b="1" lang="en-US" sz="32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145" name=""/>
          <p:cNvSpPr/>
          <p:nvPr/>
        </p:nvSpPr>
        <p:spPr>
          <a:xfrm>
            <a:off x="955800" y="1550880"/>
            <a:ext cx="835344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uchas organizaciones independientes han realizado benchmarks de Linux contra Windows NT, obteniendo como resultados que Linux tiene mejor performance bajo arquitecturas de uno y dos procesadores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 ambientes gráficos todavía hay mucho que realizar, sobretodo la integración con el kernel. Linux en el servidor no necesita interface gráfica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in embargo, es mejor decir que la performance depende de la aplicación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57240" y="6591240"/>
            <a:ext cx="1995480" cy="577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021440" y="6759720"/>
            <a:ext cx="22068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linux.org.pe</a:t>
            </a:r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148" name=""/>
          <p:cNvSpPr/>
          <p:nvPr/>
        </p:nvSpPr>
        <p:spPr>
          <a:xfrm>
            <a:off x="922320" y="1244520"/>
            <a:ext cx="8064360" cy="60480"/>
          </a:xfrm>
          <a:prstGeom prst="roundRect">
            <a:avLst>
              <a:gd name="adj" fmla="val 2630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25560" y="506520"/>
            <a:ext cx="736920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4476b"/>
                </a:solidFill>
                <a:latin typeface="verdana"/>
              </a:rPr>
              <a:t>Fortalezas de Linux : Internet Nativo</a:t>
            </a:r>
            <a:endParaRPr b="1" lang="en-US" sz="32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150" name=""/>
          <p:cNvSpPr/>
          <p:nvPr/>
        </p:nvSpPr>
        <p:spPr>
          <a:xfrm>
            <a:off x="955800" y="1550880"/>
            <a:ext cx="8353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nux nació en Internet; virtualmente garantiza que soporta todos los protocolos estándares de Internet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ue el primero en soportar IPv6. Muy usado como servidor en los proveedores de Internet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l servidor web más popular: Apache, se ejecuta en su mayoría sobre Linux y FreeBSD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s posible trabajar con aplicaciones Java, SSL, LDAP, etc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l kernel de Linux tiene funcionalidades de firewall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57240" y="6591240"/>
            <a:ext cx="1995480" cy="5778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021440" y="6759720"/>
            <a:ext cx="22068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linux.org.pe</a:t>
            </a:r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153" name=""/>
          <p:cNvSpPr/>
          <p:nvPr/>
        </p:nvSpPr>
        <p:spPr>
          <a:xfrm>
            <a:off x="922320" y="1244520"/>
            <a:ext cx="8064360" cy="60480"/>
          </a:xfrm>
          <a:prstGeom prst="roundRect">
            <a:avLst>
              <a:gd name="adj" fmla="val 2630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25560" y="506520"/>
            <a:ext cx="736920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4476b"/>
                </a:solidFill>
                <a:latin typeface="verdana"/>
              </a:rPr>
              <a:t>Fortalezas de Linux : Interoperatividad</a:t>
            </a:r>
            <a:endParaRPr b="1" lang="en-US" sz="32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155" name=""/>
          <p:cNvSpPr/>
          <p:nvPr/>
        </p:nvSpPr>
        <p:spPr>
          <a:xfrm>
            <a:off x="955800" y="1550880"/>
            <a:ext cx="8353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nux puede coexistir con otros sistemas, incluso bajo sus protocolos propietarios. Puede comunicarse vía SPX/IPX, Appletalk y hasta SNA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MBA, puede remplazar a un Windows NT (compartir archivos e impresoras), de manera transparente para los usuarios (beneficios de no necesidad de licencias por cliente)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 proyectos, existen aplicaciones para comunicarse con servicios de otros sistemas operativos, como el NDS de Novell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957240" y="6591240"/>
            <a:ext cx="1995480" cy="577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021440" y="6759720"/>
            <a:ext cx="22068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linux.org.pe</a:t>
            </a:r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158" name=""/>
          <p:cNvSpPr/>
          <p:nvPr/>
        </p:nvSpPr>
        <p:spPr>
          <a:xfrm>
            <a:off x="922320" y="1244520"/>
            <a:ext cx="8064360" cy="60480"/>
          </a:xfrm>
          <a:prstGeom prst="roundRect">
            <a:avLst>
              <a:gd name="adj" fmla="val 2630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25560" y="506520"/>
            <a:ext cx="736920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4476b"/>
                </a:solidFill>
                <a:latin typeface="verdana"/>
              </a:rPr>
              <a:t>Desventajas</a:t>
            </a:r>
            <a:endParaRPr b="1" lang="en-US" sz="32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160" name=""/>
          <p:cNvSpPr/>
          <p:nvPr/>
        </p:nvSpPr>
        <p:spPr>
          <a:xfrm>
            <a:off x="955800" y="1550880"/>
            <a:ext cx="8353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terface no amigable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oblemas de instalación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scasez de aplicaciones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alta de documentación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alta de soporte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57240" y="6591240"/>
            <a:ext cx="1995480" cy="577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021440" y="6759720"/>
            <a:ext cx="22068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linux.org.pe</a:t>
            </a:r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163" name=""/>
          <p:cNvSpPr/>
          <p:nvPr/>
        </p:nvSpPr>
        <p:spPr>
          <a:xfrm>
            <a:off x="922320" y="1244520"/>
            <a:ext cx="8064360" cy="60480"/>
          </a:xfrm>
          <a:prstGeom prst="roundRect">
            <a:avLst>
              <a:gd name="adj" fmla="val 2630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25560" y="506520"/>
            <a:ext cx="736920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4476b"/>
                </a:solidFill>
                <a:latin typeface="verdana"/>
              </a:rPr>
              <a:t>Desventajas : Interface no amigable</a:t>
            </a:r>
            <a:endParaRPr b="1" lang="en-US" sz="32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165" name=""/>
          <p:cNvSpPr/>
          <p:nvPr/>
        </p:nvSpPr>
        <p:spPr>
          <a:xfrm>
            <a:off x="955800" y="1550880"/>
            <a:ext cx="8353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 es totalmente cierto. Existen proyectos como el KDE y el GNOME que están cubriendo esta "deficiencia"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 todos modos, la línea de comandos es todavía más potente que cualquier interfase gráfica por su opciones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pende del nivel del usuario (normal o experto)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57240" y="6591240"/>
            <a:ext cx="1995480" cy="577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021440" y="6759720"/>
            <a:ext cx="22068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linux.org.pe</a:t>
            </a:r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168" name=""/>
          <p:cNvSpPr/>
          <p:nvPr/>
        </p:nvSpPr>
        <p:spPr>
          <a:xfrm>
            <a:off x="922320" y="1244520"/>
            <a:ext cx="8064360" cy="60480"/>
          </a:xfrm>
          <a:prstGeom prst="roundRect">
            <a:avLst>
              <a:gd name="adj" fmla="val 2630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25560" y="506520"/>
            <a:ext cx="736920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4476b"/>
                </a:solidFill>
                <a:latin typeface="verdana"/>
              </a:rPr>
              <a:t>Desventajas : Problemas de Instalación</a:t>
            </a:r>
            <a:endParaRPr b="1" lang="en-US" sz="32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170" name=""/>
          <p:cNvSpPr/>
          <p:nvPr/>
        </p:nvSpPr>
        <p:spPr>
          <a:xfrm>
            <a:off x="955800" y="1550880"/>
            <a:ext cx="8353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dicionalmente Linux ha sido difícil de instalar, era necesario conocer perfectamente el hardware disponible para adecuar el sistema operativo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ogresivamente la instalación se hace más sencilla, las distribuciones como RedHat o SuSE, tienen programas de instalación que autodetectan el hardware permitiendo una instalación fácil y rápida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ólo en algunos casos, es necesario modificar la instalación para el equipo en particular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957240" y="6591240"/>
            <a:ext cx="1995480" cy="577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021440" y="6759720"/>
            <a:ext cx="22068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linux.org.pe</a:t>
            </a:r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173" name=""/>
          <p:cNvSpPr/>
          <p:nvPr/>
        </p:nvSpPr>
        <p:spPr>
          <a:xfrm>
            <a:off x="922320" y="1244520"/>
            <a:ext cx="8064360" cy="60480"/>
          </a:xfrm>
          <a:prstGeom prst="roundRect">
            <a:avLst>
              <a:gd name="adj" fmla="val 2630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25560" y="506520"/>
            <a:ext cx="736920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4476b"/>
                </a:solidFill>
                <a:latin typeface="verdana"/>
              </a:rPr>
              <a:t>Desventajas : Escasez de Aplicaciones</a:t>
            </a:r>
            <a:endParaRPr b="1" lang="en-US" sz="32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175" name=""/>
          <p:cNvSpPr/>
          <p:nvPr/>
        </p:nvSpPr>
        <p:spPr>
          <a:xfrm>
            <a:off x="955800" y="1550880"/>
            <a:ext cx="8353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adie elige un sistema operativo sin aplicaciones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ocas aplicaciones comerciales, muchas aplicaciones freeware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ses de Datos Relacionales, Aplicaciones de Internet, etc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plicaciones para usuarios, gráficas, de oficina, etc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57240" y="6591240"/>
            <a:ext cx="1995480" cy="577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021440" y="6759720"/>
            <a:ext cx="22068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linux.org.pe</a:t>
            </a:r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178" name=""/>
          <p:cNvSpPr/>
          <p:nvPr/>
        </p:nvSpPr>
        <p:spPr>
          <a:xfrm>
            <a:off x="922320" y="1244520"/>
            <a:ext cx="8064360" cy="60480"/>
          </a:xfrm>
          <a:prstGeom prst="roundRect">
            <a:avLst>
              <a:gd name="adj" fmla="val 2630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25560" y="506520"/>
            <a:ext cx="736920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4476b"/>
                </a:solidFill>
                <a:latin typeface="verdana"/>
              </a:rPr>
              <a:t>Agenda</a:t>
            </a:r>
            <a:endParaRPr b="1" lang="en-US" sz="32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90" name=""/>
          <p:cNvSpPr/>
          <p:nvPr/>
        </p:nvSpPr>
        <p:spPr>
          <a:xfrm>
            <a:off x="955800" y="1550880"/>
            <a:ext cx="835344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27000"/>
              </a:lnSpc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Breve Historia de Linux</a:t>
            </a: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127000"/>
              </a:lnSpc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Fortalezas de Linux</a:t>
            </a: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127000"/>
              </a:lnSpc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esventajas de Linux</a:t>
            </a: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127000"/>
              </a:lnSpc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l futuro de Linux</a:t>
            </a: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127000"/>
              </a:lnSpc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ue es el PLUG ?</a:t>
            </a:r>
            <a:endParaRPr b="0" lang="en-US" sz="3200" spc="-1" strike="noStrike">
              <a:solidFill>
                <a:srgbClr val="000000"/>
              </a:solidFill>
              <a:latin typeface="Arial;Helvetic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57240" y="6591240"/>
            <a:ext cx="1995480" cy="577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021440" y="6759720"/>
            <a:ext cx="22068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linux.org.pe</a:t>
            </a:r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93" name=""/>
          <p:cNvSpPr/>
          <p:nvPr/>
        </p:nvSpPr>
        <p:spPr>
          <a:xfrm>
            <a:off x="922320" y="1244520"/>
            <a:ext cx="8064360" cy="60480"/>
          </a:xfrm>
          <a:prstGeom prst="roundRect">
            <a:avLst>
              <a:gd name="adj" fmla="val 2630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  <p:transition spd="med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25560" y="506520"/>
            <a:ext cx="736920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4476b"/>
                </a:solidFill>
                <a:latin typeface="verdana"/>
              </a:rPr>
              <a:t>Desventajas : Falta de documentación</a:t>
            </a:r>
            <a:endParaRPr b="1" lang="en-US" sz="32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180" name=""/>
          <p:cNvSpPr/>
          <p:nvPr/>
        </p:nvSpPr>
        <p:spPr>
          <a:xfrm>
            <a:off x="955800" y="1550880"/>
            <a:ext cx="8353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ocumentación dispersa e insuficiente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tabLst>
                <a:tab algn="l" pos="0"/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tabLst>
                <a:tab algn="l" pos="0"/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oyectos para solucionar este problema: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DP (Linux Documentation Project)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nux HOWTOs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nux FAQs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nux Man pages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uCAS (Linux en Castellano)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docs.linux.org.pe/LuCAS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957240" y="6591240"/>
            <a:ext cx="1995480" cy="5778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7021440" y="6759720"/>
            <a:ext cx="22068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linux.org.pe</a:t>
            </a:r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183" name=""/>
          <p:cNvSpPr/>
          <p:nvPr/>
        </p:nvSpPr>
        <p:spPr>
          <a:xfrm>
            <a:off x="922320" y="1244520"/>
            <a:ext cx="8064360" cy="60480"/>
          </a:xfrm>
          <a:prstGeom prst="roundRect">
            <a:avLst>
              <a:gd name="adj" fmla="val 2630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  <p:transition spd="med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25560" y="506520"/>
            <a:ext cx="736920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4476b"/>
                </a:solidFill>
                <a:latin typeface="verdana"/>
              </a:rPr>
              <a:t>Desventajas : Falta de Soporte</a:t>
            </a:r>
            <a:endParaRPr b="1" lang="en-US" sz="32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185" name=""/>
          <p:cNvSpPr/>
          <p:nvPr/>
        </p:nvSpPr>
        <p:spPr>
          <a:xfrm>
            <a:off x="955800" y="1550880"/>
            <a:ext cx="8353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 existen suficientes empresas que den soporte profesional de Linux. 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sto está cambiando. HP, Dell y Compaq empezaron a dar soporte a empresas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a mayoría de veces el soporte es voluntario a través de las listas de correo de los grupos de Linux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sta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linux-plug@linux.org.p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en Perú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957240" y="6591240"/>
            <a:ext cx="1995480" cy="5778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021440" y="6759720"/>
            <a:ext cx="22068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linux.org.pe</a:t>
            </a:r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188" name=""/>
          <p:cNvSpPr/>
          <p:nvPr/>
        </p:nvSpPr>
        <p:spPr>
          <a:xfrm>
            <a:off x="922320" y="1244520"/>
            <a:ext cx="8064360" cy="60480"/>
          </a:xfrm>
          <a:prstGeom prst="roundRect">
            <a:avLst>
              <a:gd name="adj" fmla="val 2630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  <p:transition spd="med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25560" y="506520"/>
            <a:ext cx="736920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4476b"/>
                </a:solidFill>
                <a:latin typeface="verdana"/>
              </a:rPr>
              <a:t>Que es el PLUG ?</a:t>
            </a:r>
            <a:endParaRPr b="1" lang="en-US" sz="32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190" name=""/>
          <p:cNvSpPr/>
          <p:nvPr/>
        </p:nvSpPr>
        <p:spPr>
          <a:xfrm>
            <a:off x="955800" y="1550880"/>
            <a:ext cx="8353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LUG son las siglas de Peruvian Linux User Group, o Grupo de Usuarios Linux del Peru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ternacionalmente se reconocen como LUGs a los grupos de usuarios de Linux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l PLUG es una institución sin fines de lucro cuya misión es difundir y promover el uso de Linux a nivel Peru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enimos soportando Linux desde Setiembre de 1997 y planeamos seguir haciendolo en conjunto con instituciones educativas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57240" y="6591240"/>
            <a:ext cx="1995480" cy="577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7021440" y="6759720"/>
            <a:ext cx="22068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linux.org.pe</a:t>
            </a:r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193" name=""/>
          <p:cNvSpPr/>
          <p:nvPr/>
        </p:nvSpPr>
        <p:spPr>
          <a:xfrm>
            <a:off x="922320" y="1244520"/>
            <a:ext cx="8064360" cy="60480"/>
          </a:xfrm>
          <a:prstGeom prst="roundRect">
            <a:avLst>
              <a:gd name="adj" fmla="val 2630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  <p:transition spd="med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65200" y="1833480"/>
            <a:ext cx="916776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25560" y="506520"/>
            <a:ext cx="736920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4476b"/>
                </a:solidFill>
                <a:latin typeface="verdana"/>
              </a:rPr>
              <a:t>Historia de Linux</a:t>
            </a:r>
            <a:endParaRPr b="1" lang="en-US" sz="32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95" name=""/>
          <p:cNvSpPr/>
          <p:nvPr/>
        </p:nvSpPr>
        <p:spPr>
          <a:xfrm>
            <a:off x="955800" y="1550880"/>
            <a:ext cx="835344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27000"/>
              </a:lnSpc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l Proyecto GNU y el software Libre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127000"/>
              </a:lnSpc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a importancia de la licencia GNU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127000"/>
              </a:lnSpc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troducción a Linus Torvalds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57240" y="6591240"/>
            <a:ext cx="1995480" cy="577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22320" y="1244520"/>
            <a:ext cx="8064360" cy="60480"/>
          </a:xfrm>
          <a:prstGeom prst="roundRect">
            <a:avLst>
              <a:gd name="adj" fmla="val 2630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6761160"/>
            <a:ext cx="22068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linux.org.pe</a:t>
            </a:r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25560" y="506520"/>
            <a:ext cx="736920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4476b"/>
                </a:solidFill>
                <a:latin typeface="verdana"/>
              </a:rPr>
              <a:t>Historia de Linux : GNU</a:t>
            </a:r>
            <a:endParaRPr b="1" lang="en-US" sz="32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100" name=""/>
          <p:cNvSpPr/>
          <p:nvPr/>
        </p:nvSpPr>
        <p:spPr>
          <a:xfrm>
            <a:off x="955800" y="1550880"/>
            <a:ext cx="835344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mpieza en 1984 por Richard Stallman (MIT)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l modelo escogido fue Unix, debido a que posee las mejores capacidades técnicas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ribuciones como GCC (compilador C) y emacs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127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ree Software Fundation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57240" y="6591240"/>
            <a:ext cx="1995480" cy="577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021440" y="6759720"/>
            <a:ext cx="22068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linux.org.pe</a:t>
            </a:r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103" name=""/>
          <p:cNvSpPr/>
          <p:nvPr/>
        </p:nvSpPr>
        <p:spPr>
          <a:xfrm>
            <a:off x="922320" y="1244520"/>
            <a:ext cx="8064360" cy="60480"/>
          </a:xfrm>
          <a:prstGeom prst="roundRect">
            <a:avLst>
              <a:gd name="adj" fmla="val 2630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25560" y="506520"/>
            <a:ext cx="736920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4476b"/>
                </a:solidFill>
                <a:latin typeface="verdana"/>
              </a:rPr>
              <a:t>Historia de Linux : Licencia GPL</a:t>
            </a:r>
            <a:endParaRPr b="1" lang="en-US" sz="32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105" name=""/>
          <p:cNvSpPr/>
          <p:nvPr/>
        </p:nvSpPr>
        <p:spPr>
          <a:xfrm>
            <a:off x="955800" y="1550880"/>
            <a:ext cx="835344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ribución de Stallman, el documento legal; la licencia GNU de software libre GPL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(General Public License)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l software permanece a disposición pública para todas las modificaciones y mejoras posibles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as condiciones son que cualquiera que modifique el código fuente, tiene que redistribuir su código fuente en los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smos términos de la licencia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57240" y="6591240"/>
            <a:ext cx="1995480" cy="577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021440" y="6759720"/>
            <a:ext cx="22068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linux.org.pe</a:t>
            </a:r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108" name=""/>
          <p:cNvSpPr/>
          <p:nvPr/>
        </p:nvSpPr>
        <p:spPr>
          <a:xfrm>
            <a:off x="922320" y="1244520"/>
            <a:ext cx="8064360" cy="60480"/>
          </a:xfrm>
          <a:prstGeom prst="roundRect">
            <a:avLst>
              <a:gd name="adj" fmla="val 2630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25560" y="506520"/>
            <a:ext cx="736920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4476b"/>
                </a:solidFill>
                <a:latin typeface="verdana"/>
              </a:rPr>
              <a:t>Historia de Linux : Licencia GPL</a:t>
            </a:r>
            <a:endParaRPr b="1" lang="en-US" sz="32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110" name=""/>
          <p:cNvSpPr/>
          <p:nvPr/>
        </p:nvSpPr>
        <p:spPr>
          <a:xfrm>
            <a:off x="955800" y="1550880"/>
            <a:ext cx="835344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ribución de Stallman, el documento legal; la licencia GNU de software libre GPL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(General Public License)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l software permanece a disposición pública para todas las modificaciones y mejoras posibles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as condiciones son que cualquiera que modifique el código fuente, tiene que redistribuir su código fuente en los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smos términos de la licencia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57240" y="6591240"/>
            <a:ext cx="1995480" cy="577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021440" y="6759720"/>
            <a:ext cx="22068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linux.org.pe</a:t>
            </a:r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113" name=""/>
          <p:cNvSpPr/>
          <p:nvPr/>
        </p:nvSpPr>
        <p:spPr>
          <a:xfrm>
            <a:off x="922320" y="1244520"/>
            <a:ext cx="8064360" cy="60480"/>
          </a:xfrm>
          <a:prstGeom prst="roundRect">
            <a:avLst>
              <a:gd name="adj" fmla="val 2630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25560" y="506520"/>
            <a:ext cx="736920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4476b"/>
                </a:solidFill>
                <a:latin typeface="verdana"/>
              </a:rPr>
              <a:t>Historia de Linux : Linus Torvalds</a:t>
            </a:r>
            <a:endParaRPr b="1" lang="en-US" sz="32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115" name=""/>
          <p:cNvSpPr/>
          <p:nvPr/>
        </p:nvSpPr>
        <p:spPr>
          <a:xfrm>
            <a:off x="955800" y="1550880"/>
            <a:ext cx="835344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 1991, un estudiante de Computer Science en Finlandia, escribe la primera versión de un kernel tipo Unix para su propio uso, y hace disponible su código en Internet, y pide ayuda a otros programadores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nus encontró que casi todo lo que necesitaba para su proyecto estaba disponible bajo las utilidades GNU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l llama a su proyecto: LINUX  (LINN-ucks, no LYE nucks)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57240" y="6591240"/>
            <a:ext cx="1995480" cy="577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021440" y="6759720"/>
            <a:ext cx="22068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linux.org.pe</a:t>
            </a:r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118" name=""/>
          <p:cNvSpPr/>
          <p:nvPr/>
        </p:nvSpPr>
        <p:spPr>
          <a:xfrm>
            <a:off x="922320" y="1244520"/>
            <a:ext cx="8064360" cy="60480"/>
          </a:xfrm>
          <a:prstGeom prst="roundRect">
            <a:avLst>
              <a:gd name="adj" fmla="val 2630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25560" y="506520"/>
            <a:ext cx="736920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4476b"/>
                </a:solidFill>
                <a:latin typeface="verdana"/>
              </a:rPr>
              <a:t>Fortalezas de Linux</a:t>
            </a:r>
            <a:endParaRPr b="1" lang="en-US" sz="32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120" name=""/>
          <p:cNvSpPr/>
          <p:nvPr/>
        </p:nvSpPr>
        <p:spPr>
          <a:xfrm>
            <a:off x="955800" y="1550880"/>
            <a:ext cx="835344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sto Cero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lexibilidad para configuración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 hay necesidad de Licencias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stabilidad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umple con estándares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oporte de diverso hardware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oporte nativo de Internet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teroperatividad con otros sistemas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57240" y="6591240"/>
            <a:ext cx="1995480" cy="577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021440" y="6759720"/>
            <a:ext cx="22068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linux.org.pe</a:t>
            </a:r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123" name=""/>
          <p:cNvSpPr/>
          <p:nvPr/>
        </p:nvSpPr>
        <p:spPr>
          <a:xfrm>
            <a:off x="922320" y="1244520"/>
            <a:ext cx="8064360" cy="60480"/>
          </a:xfrm>
          <a:prstGeom prst="roundRect">
            <a:avLst>
              <a:gd name="adj" fmla="val 2630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25560" y="506520"/>
            <a:ext cx="7369200" cy="7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4476b"/>
                </a:solidFill>
                <a:latin typeface="verdana"/>
              </a:rPr>
              <a:t>Fortalezas de Linux : Costo Cero</a:t>
            </a:r>
            <a:endParaRPr b="1" lang="en-US" sz="3200" spc="-1" strike="noStrike">
              <a:solidFill>
                <a:srgbClr val="000080"/>
              </a:solidFill>
              <a:latin typeface="Arial;Helvetica"/>
            </a:endParaRPr>
          </a:p>
        </p:txBody>
      </p:sp>
      <p:sp>
        <p:nvSpPr>
          <p:cNvPr id="125" name=""/>
          <p:cNvSpPr/>
          <p:nvPr/>
        </p:nvSpPr>
        <p:spPr>
          <a:xfrm>
            <a:off x="955800" y="1550880"/>
            <a:ext cx="835344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 la práctica esto no es 100% cierto puesto que existe un costo implícito que es el costo del aprendizaje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entajas en el costo de licencias, sobretodo para múltiples usuarios y computadoras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bilidad para funcionar sobre maquinas antiguas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  <a:p>
            <a:pPr>
              <a:lnSpc>
                <a:spcPct val="85000"/>
              </a:lnSpc>
              <a:spcBef>
                <a:spcPts val="663"/>
              </a:spcBef>
              <a:buClr>
                <a:srgbClr val="000000"/>
              </a:buClr>
              <a:buSzPct val="75000"/>
              <a:buFont typeface="starbats" charset="2"/>
              <a:buChar char=""/>
              <a:tabLst>
                <a:tab algn="l" pos="863640"/>
                <a:tab algn="l" pos="1728720"/>
                <a:tab algn="l" pos="2592360"/>
                <a:tab algn="l" pos="3456000"/>
                <a:tab algn="l" pos="4319640"/>
                <a:tab algn="l" pos="5184720"/>
                <a:tab algn="l" pos="6048360"/>
                <a:tab algn="l" pos="6912000"/>
                <a:tab algn="l" pos="777564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mparación con Windows NT (full configurado) $4500 ($4636) vs RedHat CD ($50). Computer Currents Magazine (USA).</a:t>
            </a:r>
            <a:endParaRPr b="0" lang="en-US" sz="2800" spc="-1" strike="noStrike">
              <a:solidFill>
                <a:srgbClr val="000000"/>
              </a:solidFill>
              <a:latin typeface="Arial;Helvetic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57240" y="6591240"/>
            <a:ext cx="1995480" cy="577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021440" y="6759720"/>
            <a:ext cx="22068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linux.org.pe</a:t>
            </a:r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  <p:sp>
        <p:nvSpPr>
          <p:cNvPr id="128" name=""/>
          <p:cNvSpPr/>
          <p:nvPr/>
        </p:nvSpPr>
        <p:spPr>
          <a:xfrm>
            <a:off x="922320" y="1244520"/>
            <a:ext cx="8064360" cy="60480"/>
          </a:xfrm>
          <a:prstGeom prst="roundRect">
            <a:avLst>
              <a:gd name="adj" fmla="val 2630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;Helvetica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5T16:17:20Z</dcterms:created>
  <dc:creator>Sandro Jurado</dc:creator>
  <dc:description/>
  <dc:language>en-US</dc:language>
  <cp:lastModifiedBy>Sandro Jurado</cp:lastModifiedBy>
  <cp:revision>0</cp:revision>
  <dc:subject/>
  <dc:title/>
</cp:coreProperties>
</file>