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E06D52F-0458-42CD-9DA0-0BCD3717617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15526D5-2340-4586-8B0A-D8BCC810D66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9B1EFE1-8F1A-42AE-8387-320B4B1B148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EA86D2E-8BD1-4F4D-B1B8-8430B8F6AE9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7940715-F29F-4477-B936-FD82FE7045FC}"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5490C87-7D2A-4334-A3E9-54A5629547B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B2143BC-DC87-4C3F-B709-BC866C6495C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8961A3-D9B1-462F-96B7-2DA59A1121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CC4955-ACF9-4E08-9CC4-30B9090C6D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A335C2-7755-4D97-A279-162CA6F105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824DF3-EE22-4E80-9C6A-BC09CBD2BB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4FDB66-2F14-47F0-B095-57D96446A6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F176D3-F223-4EC3-9959-097D96E9E3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2A409D-551D-4265-AF04-1A05FE0824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5D6BF8-CAAD-4288-9143-32D952E06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DBFE3D-F867-49F4-88B7-8A89440FB6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EFB258-0437-4C64-9BCB-138255D8A5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005CA-0657-461C-849F-EC8008F063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1E0340-2741-4CBF-A224-0D5A1DE6F3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44DE93-677F-42DC-90F1-44434EA0BE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59FFAA-0254-4F38-B630-44B531404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2850A9-C36B-4C9D-8937-92BE21834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990E1E-C8CB-4791-B71A-E5AECC4C5D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7CA80E-8966-496E-8473-25D9CB4C3C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AEAE85-76E4-48FF-8ABC-9F10E78CDB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D96164-4A66-4C1C-BE98-1868A29C16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969EB9-36CF-4296-A1D6-DC16E21CEA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6B814E-F671-48AE-81F5-8902004FAE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D89642-A8BB-4A68-BC67-C667D64903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371FCF-4A2C-437A-B536-3EBFDD72A3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B0C254-9670-497B-9E25-AD151D529D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DADD-809A-4051-A85E-7ADFCB1EDD2E}"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16C2-5B7B-41F3-A471-40F7103CE9B5}"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83240E79-FFA1-485C-9F22-F6EB273ADD89}" type="datetime3">
              <a:rPr b="0" lang="en-US" sz="2000" spc="-1" strike="noStrike">
                <a:solidFill>
                  <a:srgbClr val="ffffcc"/>
                </a:solidFill>
                <a:latin typeface="Tahoma"/>
              </a:rPr>
              <a:t>July 31,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