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Click to move the slide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SVP: The largest part of this talk will focus on RSVP and discuss what it is and how it wo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ing network protocols:  In addition, I will briefly discuss other new network technologies such as IPV6, IP security, and Mobile 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 Extensible Gateway: I’ll also talk a bit about the open extensible gateway and the issues involved in implementing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bed Network: Last, I am going to describe the network testbed that we are creating. We will use this network to run experiments with RSVP and gate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348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348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348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348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348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348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6320" y="380520"/>
            <a:ext cx="89913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348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348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348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897320" y="6448320"/>
            <a:ext cx="816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E8CC-2041-4CAE-B462-A7877D7A9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1320" y="6448320"/>
            <a:ext cx="1580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ifferentiate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79f"/>
                </a:solidFill>
                <a:latin typeface="Times New Roman"/>
              </a:rPr>
              <a:t>Differentiated Services</a:t>
            </a:r>
            <a:endParaRPr b="1" i="1" lang="en-US" sz="3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64240" y="2362320"/>
            <a:ext cx="1473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ch 19, 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52760" y="3186000"/>
            <a:ext cx="583848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rdon Chaff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keley Multimedia Research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 of California, Berke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ail: chaffee@bmrc.berkeley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L: http://bmrc.berkeley.edu/people/chaff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Configuration Discussion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ly static allocations ini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tic agreements between customers and IS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tic agreements between ISP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ent based (e.g. bandwidth broker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pe of preced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lobal: across all packet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cal: restricted to packets belonging to an application, host, etc. (as in old IPv6 Class semantic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Traffic Behavior Discussion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 percentage of traffic should be dedicated to premium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explicit per link resource managemen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e links along popular pathways might be unable to meet their traffic guarante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congestion occurs, more people likely to ask for premium servic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Payment Discussion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pays for serv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nder or receiver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endent on activity (e.g. 800 numbers for web)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blem with multicas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payment schem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Scope of Service Class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 priorities limited to an 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tend with bilateral ISP agreemen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scope of priority be extend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iated services is unidirec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71800" y="4876920"/>
            <a:ext cx="2057400" cy="98568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5181480"/>
            <a:ext cx="381240" cy="381240"/>
          </a:xfrm>
          <a:prstGeom prst="rect">
            <a:avLst/>
          </a:prstGeom>
          <a:solidFill>
            <a:srgbClr val="fd93b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19920" y="5029200"/>
            <a:ext cx="1600200" cy="83340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5029200"/>
            <a:ext cx="1600200" cy="83340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143000" y="5638680"/>
            <a:ext cx="304920" cy="304560"/>
            <a:chOff x="1143000" y="5638680"/>
            <a:chExt cx="304920" cy="304560"/>
          </a:xfrm>
        </p:grpSpPr>
        <p:sp>
          <p:nvSpPr>
            <p:cNvPr id="200" name=""/>
            <p:cNvSpPr/>
            <p:nvPr/>
          </p:nvSpPr>
          <p:spPr>
            <a:xfrm>
              <a:off x="1219320" y="5658480"/>
              <a:ext cx="152280" cy="1778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43000" y="5872320"/>
              <a:ext cx="304920" cy="70920"/>
            </a:xfrm>
            <a:custGeom>
              <a:avLst/>
              <a:gdLst/>
              <a:ahLst/>
              <a:rect l="l" t="t" r="r" b="b"/>
              <a:pathLst>
                <a:path w="288" h="96">
                  <a:moveTo>
                    <a:pt x="240" y="0"/>
                  </a:moveTo>
                  <a:lnTo>
                    <a:pt x="288" y="96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200" bIns="25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1218960" y="5872320"/>
              <a:ext cx="3780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1257120" y="587232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1181160" y="587232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355760" y="5872320"/>
              <a:ext cx="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295280" y="587232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71600" y="587232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77200" y="5896080"/>
              <a:ext cx="23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69280" y="59230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97720" y="5638680"/>
              <a:ext cx="193680" cy="2120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2133720" y="5181480"/>
            <a:ext cx="380880" cy="381240"/>
          </a:xfrm>
          <a:prstGeom prst="rect">
            <a:avLst/>
          </a:prstGeom>
          <a:solidFill>
            <a:srgbClr val="fd93b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523880" y="4876920"/>
            <a:ext cx="304920" cy="304200"/>
            <a:chOff x="1523880" y="4876920"/>
            <a:chExt cx="304920" cy="304200"/>
          </a:xfrm>
        </p:grpSpPr>
        <p:sp>
          <p:nvSpPr>
            <p:cNvPr id="213" name=""/>
            <p:cNvSpPr/>
            <p:nvPr/>
          </p:nvSpPr>
          <p:spPr>
            <a:xfrm>
              <a:off x="1600200" y="4896720"/>
              <a:ext cx="152280" cy="1778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23880" y="5110200"/>
              <a:ext cx="304920" cy="70920"/>
            </a:xfrm>
            <a:custGeom>
              <a:avLst/>
              <a:gdLst/>
              <a:ahLst/>
              <a:rect l="l" t="t" r="r" b="b"/>
              <a:pathLst>
                <a:path w="288" h="96">
                  <a:moveTo>
                    <a:pt x="240" y="0"/>
                  </a:moveTo>
                  <a:lnTo>
                    <a:pt x="288" y="96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200" bIns="25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1599840" y="5110200"/>
              <a:ext cx="3780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1638000" y="511020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1562040" y="511020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36640" y="5110200"/>
              <a:ext cx="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1676160" y="511020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52480" y="511020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58080" y="5133960"/>
              <a:ext cx="23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50160" y="51609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78600" y="4876920"/>
              <a:ext cx="193680" cy="2120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09480" y="5105520"/>
            <a:ext cx="304920" cy="304200"/>
            <a:chOff x="609480" y="5105520"/>
            <a:chExt cx="304920" cy="304200"/>
          </a:xfrm>
        </p:grpSpPr>
        <p:sp>
          <p:nvSpPr>
            <p:cNvPr id="225" name=""/>
            <p:cNvSpPr/>
            <p:nvPr/>
          </p:nvSpPr>
          <p:spPr>
            <a:xfrm>
              <a:off x="685800" y="5125320"/>
              <a:ext cx="152280" cy="1778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9480" y="5338800"/>
              <a:ext cx="304920" cy="70920"/>
            </a:xfrm>
            <a:custGeom>
              <a:avLst/>
              <a:gdLst/>
              <a:ahLst/>
              <a:rect l="l" t="t" r="r" b="b"/>
              <a:pathLst>
                <a:path w="288" h="96">
                  <a:moveTo>
                    <a:pt x="240" y="0"/>
                  </a:moveTo>
                  <a:lnTo>
                    <a:pt x="288" y="96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200" bIns="25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85440" y="5338800"/>
              <a:ext cx="3780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723600" y="533880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647640" y="533880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22240" y="5338800"/>
              <a:ext cx="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761760" y="533880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38080" y="5338800"/>
              <a:ext cx="38160" cy="7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43680" y="5362560"/>
              <a:ext cx="23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5760" y="53895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4200" y="5105520"/>
              <a:ext cx="193680" cy="2120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2362320" y="5257800"/>
            <a:ext cx="533160" cy="0"/>
          </a:xfrm>
          <a:prstGeom prst="line">
            <a:avLst/>
          </a:prstGeom>
          <a:ln w="572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52480" y="4952880"/>
            <a:ext cx="533520" cy="228600"/>
          </a:xfrm>
          <a:prstGeom prst="line">
            <a:avLst/>
          </a:prstGeom>
          <a:ln w="1908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5257800"/>
            <a:ext cx="1447920" cy="0"/>
          </a:xfrm>
          <a:prstGeom prst="line">
            <a:avLst/>
          </a:prstGeom>
          <a:ln w="1908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371600" y="5334120"/>
            <a:ext cx="914400" cy="380880"/>
          </a:xfrm>
          <a:prstGeom prst="line">
            <a:avLst/>
          </a:prstGeom>
          <a:ln w="1908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4043520"/>
            <a:ext cx="1523880" cy="5202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Traffic marked for priority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57400" y="4572000"/>
            <a:ext cx="228600" cy="53352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95480" y="4043520"/>
            <a:ext cx="1540080" cy="5202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Traffic policed for profile viol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124080" y="4572000"/>
            <a:ext cx="533520" cy="53352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76720" y="5257800"/>
            <a:ext cx="533160" cy="0"/>
          </a:xfrm>
          <a:prstGeom prst="line">
            <a:avLst/>
          </a:prstGeom>
          <a:ln w="572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477120" y="5105520"/>
            <a:ext cx="304560" cy="380880"/>
            <a:chOff x="6477120" y="5105520"/>
            <a:chExt cx="304560" cy="380880"/>
          </a:xfrm>
        </p:grpSpPr>
        <p:sp>
          <p:nvSpPr>
            <p:cNvPr id="246" name=""/>
            <p:cNvSpPr/>
            <p:nvPr/>
          </p:nvSpPr>
          <p:spPr>
            <a:xfrm>
              <a:off x="6477120" y="5176800"/>
              <a:ext cx="114120" cy="309600"/>
            </a:xfrm>
            <a:custGeom>
              <a:avLst/>
              <a:gdLst/>
              <a:ahLst/>
              <a:rect l="l" t="t" r="r" b="b"/>
              <a:pathLst>
                <a:path w="288" h="624">
                  <a:moveTo>
                    <a:pt x="0" y="0"/>
                  </a:moveTo>
                  <a:lnTo>
                    <a:pt x="0" y="528"/>
                  </a:lnTo>
                  <a:lnTo>
                    <a:pt x="288" y="624"/>
                  </a:lnTo>
                  <a:lnTo>
                    <a:pt x="288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77120" y="5391000"/>
              <a:ext cx="11412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77120" y="5343480"/>
              <a:ext cx="11412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477120" y="5295960"/>
              <a:ext cx="11412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77120" y="5248080"/>
              <a:ext cx="11412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591240" y="5153040"/>
              <a:ext cx="190080" cy="333360"/>
            </a:xfrm>
            <a:custGeom>
              <a:avLst/>
              <a:gdLst/>
              <a:ahLst/>
              <a:rect l="l" t="t" r="r" b="b"/>
              <a:pathLst>
                <a:path w="480" h="672">
                  <a:moveTo>
                    <a:pt x="0" y="672"/>
                  </a:moveTo>
                  <a:lnTo>
                    <a:pt x="480" y="528"/>
                  </a:lnTo>
                  <a:lnTo>
                    <a:pt x="480" y="0"/>
                  </a:lnTo>
                  <a:lnTo>
                    <a:pt x="0" y="144"/>
                  </a:lnTo>
                  <a:lnTo>
                    <a:pt x="0" y="672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77120" y="5105520"/>
              <a:ext cx="304560" cy="119160"/>
            </a:xfrm>
            <a:custGeom>
              <a:avLst/>
              <a:gdLst/>
              <a:ahLst/>
              <a:rect l="l" t="t" r="r" b="b"/>
              <a:pathLst>
                <a:path w="768" h="240">
                  <a:moveTo>
                    <a:pt x="288" y="240"/>
                  </a:moveTo>
                  <a:lnTo>
                    <a:pt x="0" y="144"/>
                  </a:lnTo>
                  <a:lnTo>
                    <a:pt x="528" y="0"/>
                  </a:lnTo>
                  <a:lnTo>
                    <a:pt x="768" y="96"/>
                  </a:lnTo>
                  <a:lnTo>
                    <a:pt x="288" y="24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858000" y="5410080"/>
            <a:ext cx="304920" cy="381240"/>
            <a:chOff x="6858000" y="5410080"/>
            <a:chExt cx="304920" cy="381240"/>
          </a:xfrm>
        </p:grpSpPr>
        <p:sp>
          <p:nvSpPr>
            <p:cNvPr id="254" name=""/>
            <p:cNvSpPr/>
            <p:nvPr/>
          </p:nvSpPr>
          <p:spPr>
            <a:xfrm>
              <a:off x="6858000" y="5481360"/>
              <a:ext cx="114480" cy="309960"/>
            </a:xfrm>
            <a:custGeom>
              <a:avLst/>
              <a:gdLst/>
              <a:ahLst/>
              <a:rect l="l" t="t" r="r" b="b"/>
              <a:pathLst>
                <a:path w="288" h="624">
                  <a:moveTo>
                    <a:pt x="0" y="0"/>
                  </a:moveTo>
                  <a:lnTo>
                    <a:pt x="0" y="528"/>
                  </a:lnTo>
                  <a:lnTo>
                    <a:pt x="288" y="624"/>
                  </a:lnTo>
                  <a:lnTo>
                    <a:pt x="288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58000" y="5695920"/>
              <a:ext cx="11448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858000" y="5648400"/>
              <a:ext cx="11448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858000" y="5600880"/>
              <a:ext cx="11448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58000" y="5553000"/>
              <a:ext cx="11448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972480" y="5457600"/>
              <a:ext cx="190440" cy="333720"/>
            </a:xfrm>
            <a:custGeom>
              <a:avLst/>
              <a:gdLst/>
              <a:ahLst/>
              <a:rect l="l" t="t" r="r" b="b"/>
              <a:pathLst>
                <a:path w="480" h="672">
                  <a:moveTo>
                    <a:pt x="0" y="672"/>
                  </a:moveTo>
                  <a:lnTo>
                    <a:pt x="480" y="528"/>
                  </a:lnTo>
                  <a:lnTo>
                    <a:pt x="480" y="0"/>
                  </a:lnTo>
                  <a:lnTo>
                    <a:pt x="0" y="144"/>
                  </a:lnTo>
                  <a:lnTo>
                    <a:pt x="0" y="672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58000" y="5410080"/>
              <a:ext cx="304920" cy="119160"/>
            </a:xfrm>
            <a:custGeom>
              <a:avLst/>
              <a:gdLst/>
              <a:ahLst/>
              <a:rect l="l" t="t" r="r" b="b"/>
              <a:pathLst>
                <a:path w="768" h="240">
                  <a:moveTo>
                    <a:pt x="288" y="240"/>
                  </a:moveTo>
                  <a:lnTo>
                    <a:pt x="0" y="144"/>
                  </a:lnTo>
                  <a:lnTo>
                    <a:pt x="528" y="0"/>
                  </a:lnTo>
                  <a:lnTo>
                    <a:pt x="768" y="96"/>
                  </a:lnTo>
                  <a:lnTo>
                    <a:pt x="288" y="24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 flipV="1">
            <a:off x="3809880" y="4952520"/>
            <a:ext cx="533520" cy="304920"/>
          </a:xfrm>
          <a:prstGeom prst="line">
            <a:avLst/>
          </a:prstGeom>
          <a:ln w="1908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48320" y="5257800"/>
            <a:ext cx="380880" cy="380880"/>
          </a:xfrm>
          <a:prstGeom prst="rect">
            <a:avLst/>
          </a:prstGeom>
          <a:solidFill>
            <a:srgbClr val="fd93b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15000" y="5257800"/>
            <a:ext cx="380880" cy="380880"/>
          </a:xfrm>
          <a:prstGeom prst="rect">
            <a:avLst/>
          </a:prstGeom>
          <a:solidFill>
            <a:srgbClr val="fd93b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019920" y="5410080"/>
            <a:ext cx="457200" cy="7632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6019920" y="5562360"/>
            <a:ext cx="838080" cy="15228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9880" y="5257800"/>
            <a:ext cx="1067040" cy="76320"/>
          </a:xfrm>
          <a:prstGeom prst="line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5334120"/>
            <a:ext cx="83844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791320" y="5257800"/>
            <a:ext cx="685800" cy="76320"/>
          </a:xfrm>
          <a:prstGeom prst="line">
            <a:avLst/>
          </a:prstGeom>
          <a:ln w="1260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91320" y="5334120"/>
            <a:ext cx="1066680" cy="304560"/>
          </a:xfrm>
          <a:prstGeom prst="line">
            <a:avLst/>
          </a:prstGeom>
          <a:ln w="1260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5028840" y="5486040"/>
            <a:ext cx="971640" cy="33480"/>
          </a:xfrm>
          <a:prstGeom prst="line">
            <a:avLst/>
          </a:prstGeom>
          <a:ln w="3816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809520" y="5486400"/>
            <a:ext cx="1143000" cy="0"/>
          </a:xfrm>
          <a:prstGeom prst="line">
            <a:avLst/>
          </a:prstGeom>
          <a:ln w="3816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4648320"/>
            <a:ext cx="380880" cy="380880"/>
          </a:xfrm>
          <a:prstGeom prst="rect">
            <a:avLst/>
          </a:prstGeom>
          <a:solidFill>
            <a:srgbClr val="fd93b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809880" y="5029200"/>
            <a:ext cx="609840" cy="380880"/>
          </a:xfrm>
          <a:prstGeom prst="line">
            <a:avLst/>
          </a:prstGeom>
          <a:ln w="1908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200040" y="5486400"/>
            <a:ext cx="609480" cy="0"/>
          </a:xfrm>
          <a:prstGeom prst="line">
            <a:avLst/>
          </a:prstGeom>
          <a:ln w="5724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2437920" y="5486400"/>
            <a:ext cx="685800" cy="0"/>
          </a:xfrm>
          <a:prstGeom prst="line">
            <a:avLst/>
          </a:prstGeom>
          <a:ln w="5724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1371600" y="5486400"/>
            <a:ext cx="990720" cy="38088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914400" y="5333760"/>
            <a:ext cx="1447920" cy="15228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1782720" y="5047920"/>
            <a:ext cx="579600" cy="43812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724280" y="6177240"/>
            <a:ext cx="1371600" cy="5202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No marking of returning traff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724280" y="4724280"/>
            <a:ext cx="457200" cy="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4724280" y="4876920"/>
            <a:ext cx="457200" cy="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4952520" y="5715000"/>
            <a:ext cx="304920" cy="4572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410080" y="5715000"/>
            <a:ext cx="304920" cy="4572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Security Discussion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S byte not covered by IPSEC authentication header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ft-of-service attack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ed strong authentication for service authorization/configuration, policing at network boundary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diffserv increase the potential for mis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Service Proposals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d usage of Type of Service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red Service (1 b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ium Service  (1 b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-bit Differentiate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Assured Service</a:t>
            </a:r>
            <a:br>
              <a:rPr sz="4400"/>
            </a:br>
            <a:r>
              <a:rPr b="1" i="1" lang="en-US" sz="2800" spc="-1" strike="noStrike">
                <a:solidFill>
                  <a:srgbClr val="00279f"/>
                </a:solidFill>
                <a:latin typeface="Times New Roman"/>
              </a:rPr>
              <a:t>Dave Clark (MIT)</a:t>
            </a:r>
            <a:endParaRPr b="1" i="1" lang="en-US" sz="2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ally provisio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sioned according to expected capacity usage profi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 prof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affic is “unlikely” to be dropp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ut of prof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ckets get best-effort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fines a better best-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Assured Service Example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71800" y="4419720"/>
            <a:ext cx="320040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8120" y="4165560"/>
            <a:ext cx="2222280" cy="871560"/>
          </a:xfrm>
          <a:custGeom>
            <a:avLst/>
            <a:gdLst/>
            <a:ahLst/>
            <a:rect l="l" t="t" r="r" b="b"/>
            <a:pathLst>
              <a:path w="1400" h="549">
                <a:moveTo>
                  <a:pt x="0" y="549"/>
                </a:moveTo>
                <a:cubicBezTo>
                  <a:pt x="24" y="442"/>
                  <a:pt x="2" y="167"/>
                  <a:pt x="142" y="71"/>
                </a:cubicBezTo>
                <a:cubicBezTo>
                  <a:pt x="193" y="88"/>
                  <a:pt x="166" y="69"/>
                  <a:pt x="185" y="129"/>
                </a:cubicBezTo>
                <a:cubicBezTo>
                  <a:pt x="188" y="140"/>
                  <a:pt x="195" y="161"/>
                  <a:pt x="195" y="161"/>
                </a:cubicBezTo>
                <a:cubicBezTo>
                  <a:pt x="197" y="182"/>
                  <a:pt x="191" y="206"/>
                  <a:pt x="200" y="225"/>
                </a:cubicBezTo>
                <a:cubicBezTo>
                  <a:pt x="207" y="241"/>
                  <a:pt x="229" y="215"/>
                  <a:pt x="238" y="199"/>
                </a:cubicBezTo>
                <a:cubicBezTo>
                  <a:pt x="269" y="148"/>
                  <a:pt x="290" y="33"/>
                  <a:pt x="343" y="0"/>
                </a:cubicBezTo>
                <a:cubicBezTo>
                  <a:pt x="371" y="7"/>
                  <a:pt x="370" y="56"/>
                  <a:pt x="386" y="79"/>
                </a:cubicBezTo>
                <a:cubicBezTo>
                  <a:pt x="397" y="113"/>
                  <a:pt x="396" y="149"/>
                  <a:pt x="408" y="183"/>
                </a:cubicBezTo>
                <a:cubicBezTo>
                  <a:pt x="414" y="200"/>
                  <a:pt x="434" y="230"/>
                  <a:pt x="434" y="230"/>
                </a:cubicBezTo>
                <a:cubicBezTo>
                  <a:pt x="447" y="271"/>
                  <a:pt x="483" y="235"/>
                  <a:pt x="498" y="214"/>
                </a:cubicBezTo>
                <a:cubicBezTo>
                  <a:pt x="505" y="185"/>
                  <a:pt x="518" y="154"/>
                  <a:pt x="535" y="129"/>
                </a:cubicBezTo>
                <a:cubicBezTo>
                  <a:pt x="542" y="108"/>
                  <a:pt x="549" y="99"/>
                  <a:pt x="567" y="87"/>
                </a:cubicBezTo>
                <a:cubicBezTo>
                  <a:pt x="578" y="89"/>
                  <a:pt x="590" y="86"/>
                  <a:pt x="599" y="92"/>
                </a:cubicBezTo>
                <a:cubicBezTo>
                  <a:pt x="603" y="95"/>
                  <a:pt x="613" y="145"/>
                  <a:pt x="615" y="151"/>
                </a:cubicBezTo>
                <a:cubicBezTo>
                  <a:pt x="617" y="202"/>
                  <a:pt x="618" y="254"/>
                  <a:pt x="620" y="305"/>
                </a:cubicBezTo>
                <a:cubicBezTo>
                  <a:pt x="622" y="347"/>
                  <a:pt x="621" y="493"/>
                  <a:pt x="673" y="512"/>
                </a:cubicBezTo>
                <a:cubicBezTo>
                  <a:pt x="690" y="505"/>
                  <a:pt x="705" y="501"/>
                  <a:pt x="721" y="491"/>
                </a:cubicBezTo>
                <a:cubicBezTo>
                  <a:pt x="743" y="456"/>
                  <a:pt x="746" y="409"/>
                  <a:pt x="753" y="368"/>
                </a:cubicBezTo>
                <a:cubicBezTo>
                  <a:pt x="764" y="306"/>
                  <a:pt x="784" y="245"/>
                  <a:pt x="795" y="183"/>
                </a:cubicBezTo>
                <a:cubicBezTo>
                  <a:pt x="802" y="145"/>
                  <a:pt x="815" y="110"/>
                  <a:pt x="832" y="76"/>
                </a:cubicBezTo>
                <a:cubicBezTo>
                  <a:pt x="839" y="61"/>
                  <a:pt x="848" y="29"/>
                  <a:pt x="848" y="29"/>
                </a:cubicBezTo>
                <a:cubicBezTo>
                  <a:pt x="855" y="31"/>
                  <a:pt x="863" y="30"/>
                  <a:pt x="869" y="34"/>
                </a:cubicBezTo>
                <a:cubicBezTo>
                  <a:pt x="876" y="40"/>
                  <a:pt x="885" y="82"/>
                  <a:pt x="896" y="98"/>
                </a:cubicBezTo>
                <a:cubicBezTo>
                  <a:pt x="912" y="149"/>
                  <a:pt x="925" y="200"/>
                  <a:pt x="939" y="252"/>
                </a:cubicBezTo>
                <a:cubicBezTo>
                  <a:pt x="940" y="273"/>
                  <a:pt x="931" y="395"/>
                  <a:pt x="965" y="421"/>
                </a:cubicBezTo>
                <a:cubicBezTo>
                  <a:pt x="968" y="423"/>
                  <a:pt x="994" y="431"/>
                  <a:pt x="997" y="432"/>
                </a:cubicBezTo>
                <a:cubicBezTo>
                  <a:pt x="1034" y="422"/>
                  <a:pt x="1050" y="421"/>
                  <a:pt x="1071" y="390"/>
                </a:cubicBezTo>
                <a:cubicBezTo>
                  <a:pt x="1080" y="377"/>
                  <a:pt x="1098" y="352"/>
                  <a:pt x="1098" y="352"/>
                </a:cubicBezTo>
                <a:cubicBezTo>
                  <a:pt x="1115" y="301"/>
                  <a:pt x="1140" y="280"/>
                  <a:pt x="1188" y="262"/>
                </a:cubicBezTo>
                <a:cubicBezTo>
                  <a:pt x="1235" y="248"/>
                  <a:pt x="1312" y="219"/>
                  <a:pt x="1347" y="265"/>
                </a:cubicBezTo>
                <a:cubicBezTo>
                  <a:pt x="1382" y="311"/>
                  <a:pt x="1389" y="484"/>
                  <a:pt x="1400" y="541"/>
                </a:cubicBez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48120" y="4394160"/>
            <a:ext cx="2222280" cy="631800"/>
          </a:xfrm>
          <a:custGeom>
            <a:avLst/>
            <a:gdLst/>
            <a:ahLst/>
            <a:rect l="l" t="t" r="r" b="b"/>
            <a:pathLst>
              <a:path w="1400" h="398">
                <a:moveTo>
                  <a:pt x="0" y="398"/>
                </a:moveTo>
                <a:cubicBezTo>
                  <a:pt x="24" y="295"/>
                  <a:pt x="7" y="133"/>
                  <a:pt x="81" y="11"/>
                </a:cubicBezTo>
                <a:cubicBezTo>
                  <a:pt x="132" y="28"/>
                  <a:pt x="113" y="5"/>
                  <a:pt x="198" y="11"/>
                </a:cubicBezTo>
                <a:cubicBezTo>
                  <a:pt x="218" y="24"/>
                  <a:pt x="193" y="77"/>
                  <a:pt x="200" y="86"/>
                </a:cubicBezTo>
                <a:cubicBezTo>
                  <a:pt x="207" y="102"/>
                  <a:pt x="229" y="77"/>
                  <a:pt x="238" y="61"/>
                </a:cubicBezTo>
                <a:cubicBezTo>
                  <a:pt x="269" y="12"/>
                  <a:pt x="219" y="37"/>
                  <a:pt x="272" y="5"/>
                </a:cubicBezTo>
                <a:cubicBezTo>
                  <a:pt x="300" y="12"/>
                  <a:pt x="405" y="0"/>
                  <a:pt x="410" y="16"/>
                </a:cubicBezTo>
                <a:cubicBezTo>
                  <a:pt x="421" y="49"/>
                  <a:pt x="396" y="13"/>
                  <a:pt x="408" y="46"/>
                </a:cubicBezTo>
                <a:cubicBezTo>
                  <a:pt x="414" y="62"/>
                  <a:pt x="434" y="91"/>
                  <a:pt x="434" y="91"/>
                </a:cubicBezTo>
                <a:cubicBezTo>
                  <a:pt x="447" y="131"/>
                  <a:pt x="483" y="96"/>
                  <a:pt x="498" y="76"/>
                </a:cubicBezTo>
                <a:cubicBezTo>
                  <a:pt x="505" y="48"/>
                  <a:pt x="494" y="40"/>
                  <a:pt x="511" y="16"/>
                </a:cubicBezTo>
                <a:cubicBezTo>
                  <a:pt x="528" y="5"/>
                  <a:pt x="580" y="11"/>
                  <a:pt x="607" y="11"/>
                </a:cubicBezTo>
                <a:cubicBezTo>
                  <a:pt x="625" y="36"/>
                  <a:pt x="608" y="105"/>
                  <a:pt x="620" y="163"/>
                </a:cubicBezTo>
                <a:cubicBezTo>
                  <a:pt x="622" y="204"/>
                  <a:pt x="621" y="344"/>
                  <a:pt x="673" y="362"/>
                </a:cubicBezTo>
                <a:cubicBezTo>
                  <a:pt x="690" y="356"/>
                  <a:pt x="705" y="352"/>
                  <a:pt x="721" y="342"/>
                </a:cubicBezTo>
                <a:cubicBezTo>
                  <a:pt x="743" y="309"/>
                  <a:pt x="746" y="263"/>
                  <a:pt x="753" y="224"/>
                </a:cubicBezTo>
                <a:cubicBezTo>
                  <a:pt x="764" y="164"/>
                  <a:pt x="784" y="106"/>
                  <a:pt x="795" y="46"/>
                </a:cubicBezTo>
                <a:cubicBezTo>
                  <a:pt x="802" y="9"/>
                  <a:pt x="791" y="54"/>
                  <a:pt x="808" y="21"/>
                </a:cubicBezTo>
                <a:cubicBezTo>
                  <a:pt x="825" y="7"/>
                  <a:pt x="885" y="12"/>
                  <a:pt x="911" y="18"/>
                </a:cubicBezTo>
                <a:cubicBezTo>
                  <a:pt x="927" y="67"/>
                  <a:pt x="925" y="62"/>
                  <a:pt x="939" y="112"/>
                </a:cubicBezTo>
                <a:cubicBezTo>
                  <a:pt x="940" y="133"/>
                  <a:pt x="931" y="250"/>
                  <a:pt x="965" y="275"/>
                </a:cubicBezTo>
                <a:cubicBezTo>
                  <a:pt x="968" y="277"/>
                  <a:pt x="994" y="285"/>
                  <a:pt x="997" y="285"/>
                </a:cubicBezTo>
                <a:cubicBezTo>
                  <a:pt x="1034" y="276"/>
                  <a:pt x="1050" y="275"/>
                  <a:pt x="1071" y="245"/>
                </a:cubicBezTo>
                <a:cubicBezTo>
                  <a:pt x="1080" y="233"/>
                  <a:pt x="1098" y="209"/>
                  <a:pt x="1098" y="209"/>
                </a:cubicBezTo>
                <a:cubicBezTo>
                  <a:pt x="1115" y="159"/>
                  <a:pt x="1140" y="139"/>
                  <a:pt x="1188" y="122"/>
                </a:cubicBezTo>
                <a:cubicBezTo>
                  <a:pt x="1235" y="109"/>
                  <a:pt x="1312" y="81"/>
                  <a:pt x="1347" y="125"/>
                </a:cubicBezTo>
                <a:cubicBezTo>
                  <a:pt x="1382" y="169"/>
                  <a:pt x="1389" y="335"/>
                  <a:pt x="1400" y="390"/>
                </a:cubicBez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71800" y="50292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99280" y="5090760"/>
            <a:ext cx="15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ured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14600" y="4724280"/>
            <a:ext cx="3808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248520" y="4724280"/>
            <a:ext cx="457200" cy="6098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52880" y="4240080"/>
            <a:ext cx="218880" cy="168480"/>
          </a:xfrm>
          <a:custGeom>
            <a:avLst/>
            <a:gdLst/>
            <a:ahLst/>
            <a:rect l="l" t="t" r="r" b="b"/>
            <a:pathLst>
              <a:path w="138" h="106">
                <a:moveTo>
                  <a:pt x="0" y="106"/>
                </a:moveTo>
                <a:cubicBezTo>
                  <a:pt x="3" y="95"/>
                  <a:pt x="23" y="59"/>
                  <a:pt x="31" y="42"/>
                </a:cubicBezTo>
                <a:cubicBezTo>
                  <a:pt x="39" y="24"/>
                  <a:pt x="63" y="1"/>
                  <a:pt x="63" y="1"/>
                </a:cubicBezTo>
                <a:cubicBezTo>
                  <a:pt x="73" y="0"/>
                  <a:pt x="104" y="15"/>
                  <a:pt x="116" y="32"/>
                </a:cubicBezTo>
                <a:cubicBezTo>
                  <a:pt x="128" y="49"/>
                  <a:pt x="133" y="91"/>
                  <a:pt x="138" y="106"/>
                </a:cubicBezTo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454560" y="4149720"/>
            <a:ext cx="228600" cy="252360"/>
          </a:xfrm>
          <a:custGeom>
            <a:avLst/>
            <a:gdLst/>
            <a:ahLst/>
            <a:rect l="l" t="t" r="r" b="b"/>
            <a:pathLst>
              <a:path w="144" h="159">
                <a:moveTo>
                  <a:pt x="0" y="159"/>
                </a:moveTo>
                <a:cubicBezTo>
                  <a:pt x="3" y="144"/>
                  <a:pt x="23" y="93"/>
                  <a:pt x="31" y="69"/>
                </a:cubicBezTo>
                <a:cubicBezTo>
                  <a:pt x="39" y="44"/>
                  <a:pt x="63" y="11"/>
                  <a:pt x="63" y="11"/>
                </a:cubicBezTo>
                <a:cubicBezTo>
                  <a:pt x="73" y="10"/>
                  <a:pt x="111" y="0"/>
                  <a:pt x="123" y="25"/>
                </a:cubicBezTo>
                <a:cubicBezTo>
                  <a:pt x="136" y="49"/>
                  <a:pt x="140" y="126"/>
                  <a:pt x="144" y="153"/>
                </a:cubicBezTo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319640" y="4227480"/>
            <a:ext cx="176040" cy="192240"/>
          </a:xfrm>
          <a:custGeom>
            <a:avLst/>
            <a:gdLst/>
            <a:ahLst/>
            <a:rect l="l" t="t" r="r" b="b"/>
            <a:pathLst>
              <a:path w="103" h="109">
                <a:moveTo>
                  <a:pt x="0" y="109"/>
                </a:moveTo>
                <a:cubicBezTo>
                  <a:pt x="2" y="98"/>
                  <a:pt x="19" y="61"/>
                  <a:pt x="25" y="43"/>
                </a:cubicBezTo>
                <a:cubicBezTo>
                  <a:pt x="32" y="25"/>
                  <a:pt x="51" y="1"/>
                  <a:pt x="51" y="1"/>
                </a:cubicBezTo>
                <a:cubicBezTo>
                  <a:pt x="59" y="0"/>
                  <a:pt x="77" y="7"/>
                  <a:pt x="88" y="24"/>
                </a:cubicBezTo>
                <a:cubicBezTo>
                  <a:pt x="97" y="42"/>
                  <a:pt x="100" y="91"/>
                  <a:pt x="103" y="109"/>
                </a:cubicBezTo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8600" y="4165560"/>
            <a:ext cx="2222640" cy="871560"/>
          </a:xfrm>
          <a:custGeom>
            <a:avLst/>
            <a:gdLst/>
            <a:ahLst/>
            <a:rect l="l" t="t" r="r" b="b"/>
            <a:pathLst>
              <a:path w="1400" h="549">
                <a:moveTo>
                  <a:pt x="0" y="549"/>
                </a:moveTo>
                <a:cubicBezTo>
                  <a:pt x="24" y="442"/>
                  <a:pt x="2" y="167"/>
                  <a:pt x="142" y="71"/>
                </a:cubicBezTo>
                <a:cubicBezTo>
                  <a:pt x="193" y="88"/>
                  <a:pt x="166" y="69"/>
                  <a:pt x="185" y="129"/>
                </a:cubicBezTo>
                <a:cubicBezTo>
                  <a:pt x="188" y="140"/>
                  <a:pt x="195" y="161"/>
                  <a:pt x="195" y="161"/>
                </a:cubicBezTo>
                <a:cubicBezTo>
                  <a:pt x="197" y="182"/>
                  <a:pt x="191" y="206"/>
                  <a:pt x="200" y="225"/>
                </a:cubicBezTo>
                <a:cubicBezTo>
                  <a:pt x="207" y="241"/>
                  <a:pt x="229" y="215"/>
                  <a:pt x="238" y="199"/>
                </a:cubicBezTo>
                <a:cubicBezTo>
                  <a:pt x="269" y="148"/>
                  <a:pt x="290" y="33"/>
                  <a:pt x="343" y="0"/>
                </a:cubicBezTo>
                <a:cubicBezTo>
                  <a:pt x="371" y="7"/>
                  <a:pt x="370" y="56"/>
                  <a:pt x="386" y="79"/>
                </a:cubicBezTo>
                <a:cubicBezTo>
                  <a:pt x="397" y="113"/>
                  <a:pt x="396" y="149"/>
                  <a:pt x="408" y="183"/>
                </a:cubicBezTo>
                <a:cubicBezTo>
                  <a:pt x="414" y="200"/>
                  <a:pt x="434" y="230"/>
                  <a:pt x="434" y="230"/>
                </a:cubicBezTo>
                <a:cubicBezTo>
                  <a:pt x="447" y="271"/>
                  <a:pt x="483" y="235"/>
                  <a:pt x="498" y="214"/>
                </a:cubicBezTo>
                <a:cubicBezTo>
                  <a:pt x="505" y="185"/>
                  <a:pt x="518" y="154"/>
                  <a:pt x="535" y="129"/>
                </a:cubicBezTo>
                <a:cubicBezTo>
                  <a:pt x="542" y="108"/>
                  <a:pt x="549" y="99"/>
                  <a:pt x="567" y="87"/>
                </a:cubicBezTo>
                <a:cubicBezTo>
                  <a:pt x="578" y="89"/>
                  <a:pt x="590" y="86"/>
                  <a:pt x="599" y="92"/>
                </a:cubicBezTo>
                <a:cubicBezTo>
                  <a:pt x="603" y="95"/>
                  <a:pt x="613" y="145"/>
                  <a:pt x="615" y="151"/>
                </a:cubicBezTo>
                <a:cubicBezTo>
                  <a:pt x="617" y="202"/>
                  <a:pt x="618" y="254"/>
                  <a:pt x="620" y="305"/>
                </a:cubicBezTo>
                <a:cubicBezTo>
                  <a:pt x="622" y="347"/>
                  <a:pt x="621" y="493"/>
                  <a:pt x="673" y="512"/>
                </a:cubicBezTo>
                <a:cubicBezTo>
                  <a:pt x="690" y="505"/>
                  <a:pt x="705" y="501"/>
                  <a:pt x="721" y="491"/>
                </a:cubicBezTo>
                <a:cubicBezTo>
                  <a:pt x="743" y="456"/>
                  <a:pt x="746" y="409"/>
                  <a:pt x="753" y="368"/>
                </a:cubicBezTo>
                <a:cubicBezTo>
                  <a:pt x="764" y="306"/>
                  <a:pt x="784" y="245"/>
                  <a:pt x="795" y="183"/>
                </a:cubicBezTo>
                <a:cubicBezTo>
                  <a:pt x="802" y="145"/>
                  <a:pt x="815" y="110"/>
                  <a:pt x="832" y="76"/>
                </a:cubicBezTo>
                <a:cubicBezTo>
                  <a:pt x="839" y="61"/>
                  <a:pt x="848" y="29"/>
                  <a:pt x="848" y="29"/>
                </a:cubicBezTo>
                <a:cubicBezTo>
                  <a:pt x="855" y="31"/>
                  <a:pt x="863" y="30"/>
                  <a:pt x="869" y="34"/>
                </a:cubicBezTo>
                <a:cubicBezTo>
                  <a:pt x="876" y="40"/>
                  <a:pt x="885" y="82"/>
                  <a:pt x="896" y="98"/>
                </a:cubicBezTo>
                <a:cubicBezTo>
                  <a:pt x="912" y="149"/>
                  <a:pt x="925" y="200"/>
                  <a:pt x="939" y="252"/>
                </a:cubicBezTo>
                <a:cubicBezTo>
                  <a:pt x="940" y="273"/>
                  <a:pt x="931" y="395"/>
                  <a:pt x="965" y="421"/>
                </a:cubicBezTo>
                <a:cubicBezTo>
                  <a:pt x="968" y="423"/>
                  <a:pt x="994" y="431"/>
                  <a:pt x="997" y="432"/>
                </a:cubicBezTo>
                <a:cubicBezTo>
                  <a:pt x="1034" y="422"/>
                  <a:pt x="1050" y="421"/>
                  <a:pt x="1071" y="390"/>
                </a:cubicBezTo>
                <a:cubicBezTo>
                  <a:pt x="1080" y="377"/>
                  <a:pt x="1098" y="352"/>
                  <a:pt x="1098" y="352"/>
                </a:cubicBezTo>
                <a:cubicBezTo>
                  <a:pt x="1115" y="301"/>
                  <a:pt x="1140" y="280"/>
                  <a:pt x="1188" y="262"/>
                </a:cubicBezTo>
                <a:cubicBezTo>
                  <a:pt x="1235" y="248"/>
                  <a:pt x="1312" y="219"/>
                  <a:pt x="1347" y="265"/>
                </a:cubicBezTo>
                <a:cubicBezTo>
                  <a:pt x="1382" y="311"/>
                  <a:pt x="1389" y="484"/>
                  <a:pt x="1400" y="541"/>
                </a:cubicBez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05720" y="3505320"/>
            <a:ext cx="2222280" cy="871560"/>
          </a:xfrm>
          <a:custGeom>
            <a:avLst/>
            <a:gdLst/>
            <a:ahLst/>
            <a:rect l="l" t="t" r="r" b="b"/>
            <a:pathLst>
              <a:path w="1400" h="549">
                <a:moveTo>
                  <a:pt x="0" y="549"/>
                </a:moveTo>
                <a:cubicBezTo>
                  <a:pt x="24" y="442"/>
                  <a:pt x="2" y="167"/>
                  <a:pt x="142" y="71"/>
                </a:cubicBezTo>
                <a:cubicBezTo>
                  <a:pt x="193" y="88"/>
                  <a:pt x="166" y="69"/>
                  <a:pt x="185" y="129"/>
                </a:cubicBezTo>
                <a:cubicBezTo>
                  <a:pt x="188" y="140"/>
                  <a:pt x="195" y="161"/>
                  <a:pt x="195" y="161"/>
                </a:cubicBezTo>
                <a:cubicBezTo>
                  <a:pt x="197" y="182"/>
                  <a:pt x="191" y="206"/>
                  <a:pt x="200" y="225"/>
                </a:cubicBezTo>
                <a:cubicBezTo>
                  <a:pt x="207" y="241"/>
                  <a:pt x="229" y="215"/>
                  <a:pt x="238" y="199"/>
                </a:cubicBezTo>
                <a:cubicBezTo>
                  <a:pt x="269" y="148"/>
                  <a:pt x="290" y="33"/>
                  <a:pt x="343" y="0"/>
                </a:cubicBezTo>
                <a:cubicBezTo>
                  <a:pt x="371" y="7"/>
                  <a:pt x="370" y="56"/>
                  <a:pt x="386" y="79"/>
                </a:cubicBezTo>
                <a:cubicBezTo>
                  <a:pt x="397" y="113"/>
                  <a:pt x="396" y="149"/>
                  <a:pt x="408" y="183"/>
                </a:cubicBezTo>
                <a:cubicBezTo>
                  <a:pt x="414" y="200"/>
                  <a:pt x="434" y="230"/>
                  <a:pt x="434" y="230"/>
                </a:cubicBezTo>
                <a:cubicBezTo>
                  <a:pt x="447" y="271"/>
                  <a:pt x="483" y="235"/>
                  <a:pt x="498" y="214"/>
                </a:cubicBezTo>
                <a:cubicBezTo>
                  <a:pt x="505" y="185"/>
                  <a:pt x="518" y="154"/>
                  <a:pt x="535" y="129"/>
                </a:cubicBezTo>
                <a:cubicBezTo>
                  <a:pt x="542" y="108"/>
                  <a:pt x="549" y="99"/>
                  <a:pt x="567" y="87"/>
                </a:cubicBezTo>
                <a:cubicBezTo>
                  <a:pt x="578" y="89"/>
                  <a:pt x="590" y="86"/>
                  <a:pt x="599" y="92"/>
                </a:cubicBezTo>
                <a:cubicBezTo>
                  <a:pt x="603" y="95"/>
                  <a:pt x="613" y="145"/>
                  <a:pt x="615" y="151"/>
                </a:cubicBezTo>
                <a:cubicBezTo>
                  <a:pt x="617" y="202"/>
                  <a:pt x="618" y="254"/>
                  <a:pt x="620" y="305"/>
                </a:cubicBezTo>
                <a:cubicBezTo>
                  <a:pt x="622" y="347"/>
                  <a:pt x="621" y="493"/>
                  <a:pt x="673" y="512"/>
                </a:cubicBezTo>
                <a:cubicBezTo>
                  <a:pt x="690" y="505"/>
                  <a:pt x="705" y="501"/>
                  <a:pt x="721" y="491"/>
                </a:cubicBezTo>
                <a:cubicBezTo>
                  <a:pt x="743" y="456"/>
                  <a:pt x="746" y="409"/>
                  <a:pt x="753" y="368"/>
                </a:cubicBezTo>
                <a:cubicBezTo>
                  <a:pt x="764" y="306"/>
                  <a:pt x="784" y="245"/>
                  <a:pt x="795" y="183"/>
                </a:cubicBezTo>
                <a:cubicBezTo>
                  <a:pt x="802" y="145"/>
                  <a:pt x="815" y="110"/>
                  <a:pt x="832" y="76"/>
                </a:cubicBezTo>
                <a:cubicBezTo>
                  <a:pt x="839" y="61"/>
                  <a:pt x="848" y="29"/>
                  <a:pt x="848" y="29"/>
                </a:cubicBezTo>
                <a:cubicBezTo>
                  <a:pt x="855" y="31"/>
                  <a:pt x="863" y="30"/>
                  <a:pt x="869" y="34"/>
                </a:cubicBezTo>
                <a:cubicBezTo>
                  <a:pt x="876" y="40"/>
                  <a:pt x="885" y="82"/>
                  <a:pt x="896" y="98"/>
                </a:cubicBezTo>
                <a:cubicBezTo>
                  <a:pt x="912" y="149"/>
                  <a:pt x="925" y="200"/>
                  <a:pt x="939" y="252"/>
                </a:cubicBezTo>
                <a:cubicBezTo>
                  <a:pt x="940" y="273"/>
                  <a:pt x="931" y="395"/>
                  <a:pt x="965" y="421"/>
                </a:cubicBezTo>
                <a:cubicBezTo>
                  <a:pt x="968" y="423"/>
                  <a:pt x="994" y="431"/>
                  <a:pt x="997" y="432"/>
                </a:cubicBezTo>
                <a:cubicBezTo>
                  <a:pt x="1034" y="422"/>
                  <a:pt x="1050" y="421"/>
                  <a:pt x="1071" y="390"/>
                </a:cubicBezTo>
                <a:cubicBezTo>
                  <a:pt x="1080" y="377"/>
                  <a:pt x="1098" y="352"/>
                  <a:pt x="1098" y="352"/>
                </a:cubicBezTo>
                <a:cubicBezTo>
                  <a:pt x="1115" y="301"/>
                  <a:pt x="1140" y="280"/>
                  <a:pt x="1188" y="262"/>
                </a:cubicBezTo>
                <a:cubicBezTo>
                  <a:pt x="1235" y="248"/>
                  <a:pt x="1312" y="219"/>
                  <a:pt x="1347" y="265"/>
                </a:cubicBezTo>
                <a:cubicBezTo>
                  <a:pt x="1382" y="311"/>
                  <a:pt x="1389" y="484"/>
                  <a:pt x="1400" y="541"/>
                </a:cubicBez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67120" y="4295880"/>
            <a:ext cx="150840" cy="112680"/>
          </a:xfrm>
          <a:custGeom>
            <a:avLst/>
            <a:gdLst/>
            <a:ahLst/>
            <a:rect l="l" t="t" r="r" b="b"/>
            <a:pathLst>
              <a:path w="138" h="106">
                <a:moveTo>
                  <a:pt x="0" y="106"/>
                </a:moveTo>
                <a:cubicBezTo>
                  <a:pt x="3" y="95"/>
                  <a:pt x="23" y="59"/>
                  <a:pt x="31" y="42"/>
                </a:cubicBezTo>
                <a:cubicBezTo>
                  <a:pt x="39" y="24"/>
                  <a:pt x="63" y="1"/>
                  <a:pt x="63" y="1"/>
                </a:cubicBezTo>
                <a:cubicBezTo>
                  <a:pt x="73" y="0"/>
                  <a:pt x="104" y="15"/>
                  <a:pt x="116" y="32"/>
                </a:cubicBezTo>
                <a:cubicBezTo>
                  <a:pt x="128" y="49"/>
                  <a:pt x="133" y="91"/>
                  <a:pt x="138" y="106"/>
                </a:cubicBezTo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186360" y="3511080"/>
            <a:ext cx="1636200" cy="3373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Drop if conges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3352320" y="3886200"/>
            <a:ext cx="228600" cy="30492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3615840" y="3886200"/>
            <a:ext cx="117720" cy="2286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62520" y="3886200"/>
            <a:ext cx="0" cy="3808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91120" y="3886200"/>
            <a:ext cx="152280" cy="30492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705720" y="5029200"/>
            <a:ext cx="2222280" cy="631800"/>
          </a:xfrm>
          <a:custGeom>
            <a:avLst/>
            <a:gdLst/>
            <a:ahLst/>
            <a:rect l="l" t="t" r="r" b="b"/>
            <a:pathLst>
              <a:path w="1400" h="398">
                <a:moveTo>
                  <a:pt x="0" y="398"/>
                </a:moveTo>
                <a:cubicBezTo>
                  <a:pt x="24" y="295"/>
                  <a:pt x="7" y="133"/>
                  <a:pt x="81" y="11"/>
                </a:cubicBezTo>
                <a:cubicBezTo>
                  <a:pt x="132" y="28"/>
                  <a:pt x="113" y="5"/>
                  <a:pt x="198" y="11"/>
                </a:cubicBezTo>
                <a:cubicBezTo>
                  <a:pt x="218" y="24"/>
                  <a:pt x="193" y="77"/>
                  <a:pt x="200" y="86"/>
                </a:cubicBezTo>
                <a:cubicBezTo>
                  <a:pt x="207" y="102"/>
                  <a:pt x="229" y="77"/>
                  <a:pt x="238" y="61"/>
                </a:cubicBezTo>
                <a:cubicBezTo>
                  <a:pt x="269" y="12"/>
                  <a:pt x="219" y="37"/>
                  <a:pt x="272" y="5"/>
                </a:cubicBezTo>
                <a:cubicBezTo>
                  <a:pt x="300" y="12"/>
                  <a:pt x="405" y="0"/>
                  <a:pt x="410" y="16"/>
                </a:cubicBezTo>
                <a:cubicBezTo>
                  <a:pt x="421" y="49"/>
                  <a:pt x="396" y="13"/>
                  <a:pt x="408" y="46"/>
                </a:cubicBezTo>
                <a:cubicBezTo>
                  <a:pt x="414" y="62"/>
                  <a:pt x="434" y="91"/>
                  <a:pt x="434" y="91"/>
                </a:cubicBezTo>
                <a:cubicBezTo>
                  <a:pt x="447" y="131"/>
                  <a:pt x="483" y="96"/>
                  <a:pt x="498" y="76"/>
                </a:cubicBezTo>
                <a:cubicBezTo>
                  <a:pt x="505" y="48"/>
                  <a:pt x="494" y="40"/>
                  <a:pt x="511" y="16"/>
                </a:cubicBezTo>
                <a:cubicBezTo>
                  <a:pt x="528" y="5"/>
                  <a:pt x="580" y="11"/>
                  <a:pt x="607" y="11"/>
                </a:cubicBezTo>
                <a:cubicBezTo>
                  <a:pt x="625" y="36"/>
                  <a:pt x="608" y="105"/>
                  <a:pt x="620" y="163"/>
                </a:cubicBezTo>
                <a:cubicBezTo>
                  <a:pt x="622" y="204"/>
                  <a:pt x="621" y="344"/>
                  <a:pt x="673" y="362"/>
                </a:cubicBezTo>
                <a:cubicBezTo>
                  <a:pt x="690" y="356"/>
                  <a:pt x="705" y="352"/>
                  <a:pt x="721" y="342"/>
                </a:cubicBezTo>
                <a:cubicBezTo>
                  <a:pt x="743" y="309"/>
                  <a:pt x="746" y="263"/>
                  <a:pt x="753" y="224"/>
                </a:cubicBezTo>
                <a:cubicBezTo>
                  <a:pt x="764" y="164"/>
                  <a:pt x="784" y="106"/>
                  <a:pt x="795" y="46"/>
                </a:cubicBezTo>
                <a:cubicBezTo>
                  <a:pt x="802" y="9"/>
                  <a:pt x="791" y="54"/>
                  <a:pt x="808" y="21"/>
                </a:cubicBezTo>
                <a:cubicBezTo>
                  <a:pt x="825" y="7"/>
                  <a:pt x="885" y="12"/>
                  <a:pt x="911" y="18"/>
                </a:cubicBezTo>
                <a:cubicBezTo>
                  <a:pt x="927" y="67"/>
                  <a:pt x="925" y="62"/>
                  <a:pt x="939" y="112"/>
                </a:cubicBezTo>
                <a:cubicBezTo>
                  <a:pt x="940" y="133"/>
                  <a:pt x="931" y="250"/>
                  <a:pt x="965" y="275"/>
                </a:cubicBezTo>
                <a:cubicBezTo>
                  <a:pt x="968" y="277"/>
                  <a:pt x="994" y="285"/>
                  <a:pt x="997" y="285"/>
                </a:cubicBezTo>
                <a:cubicBezTo>
                  <a:pt x="1034" y="276"/>
                  <a:pt x="1050" y="275"/>
                  <a:pt x="1071" y="245"/>
                </a:cubicBezTo>
                <a:cubicBezTo>
                  <a:pt x="1080" y="233"/>
                  <a:pt x="1098" y="209"/>
                  <a:pt x="1098" y="209"/>
                </a:cubicBezTo>
                <a:cubicBezTo>
                  <a:pt x="1115" y="159"/>
                  <a:pt x="1140" y="139"/>
                  <a:pt x="1188" y="122"/>
                </a:cubicBezTo>
                <a:cubicBezTo>
                  <a:pt x="1235" y="109"/>
                  <a:pt x="1312" y="81"/>
                  <a:pt x="1347" y="125"/>
                </a:cubicBezTo>
                <a:cubicBezTo>
                  <a:pt x="1382" y="169"/>
                  <a:pt x="1389" y="335"/>
                  <a:pt x="1400" y="390"/>
                </a:cubicBez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248520" y="4038480"/>
            <a:ext cx="457200" cy="6098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401880" y="47700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ges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02240" y="4343040"/>
            <a:ext cx="12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conges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1447920"/>
            <a:ext cx="3353040" cy="175248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19520" y="2133720"/>
            <a:ext cx="304560" cy="304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86200" y="2133720"/>
            <a:ext cx="304920" cy="30456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1752480"/>
            <a:ext cx="1600200" cy="129060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010280" y="1676520"/>
            <a:ext cx="1600200" cy="113796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124080" y="2286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029200" y="2133720"/>
            <a:ext cx="304920" cy="30456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95880" y="2133720"/>
            <a:ext cx="304920" cy="304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191120" y="22860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34120" y="22860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28800" y="2133720"/>
            <a:ext cx="304920" cy="304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934320" y="2133720"/>
            <a:ext cx="304560" cy="304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133720" y="22860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400800" y="2286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971800" y="4419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Premium Service</a:t>
            </a:r>
            <a:br>
              <a:rPr sz="4400"/>
            </a:br>
            <a:r>
              <a:rPr b="1" i="1" lang="en-US" sz="2800" spc="-1" strike="noStrike">
                <a:solidFill>
                  <a:srgbClr val="00279f"/>
                </a:solidFill>
                <a:latin typeface="Times New Roman"/>
              </a:rPr>
              <a:t>Van Jacobson (LBL)</a:t>
            </a:r>
            <a:endParaRPr b="1" i="1" lang="en-US" sz="2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rvative allocation of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sioned according to peak capacity profi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ped at boundaries to remove bur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 of profile packets dropp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fines a virtual leased line: fixed maximum bandwidth, but available when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252960" y="4545000"/>
            <a:ext cx="218880" cy="168120"/>
          </a:xfrm>
          <a:custGeom>
            <a:avLst/>
            <a:gdLst/>
            <a:ahLst/>
            <a:rect l="l" t="t" r="r" b="b"/>
            <a:pathLst>
              <a:path w="138" h="106">
                <a:moveTo>
                  <a:pt x="0" y="106"/>
                </a:moveTo>
                <a:cubicBezTo>
                  <a:pt x="3" y="95"/>
                  <a:pt x="23" y="59"/>
                  <a:pt x="31" y="42"/>
                </a:cubicBezTo>
                <a:cubicBezTo>
                  <a:pt x="39" y="24"/>
                  <a:pt x="63" y="1"/>
                  <a:pt x="63" y="1"/>
                </a:cubicBezTo>
                <a:cubicBezTo>
                  <a:pt x="73" y="0"/>
                  <a:pt x="104" y="15"/>
                  <a:pt x="116" y="32"/>
                </a:cubicBezTo>
                <a:cubicBezTo>
                  <a:pt x="128" y="49"/>
                  <a:pt x="133" y="91"/>
                  <a:pt x="138" y="106"/>
                </a:cubicBezTo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537000" y="4464000"/>
            <a:ext cx="228600" cy="252360"/>
          </a:xfrm>
          <a:custGeom>
            <a:avLst/>
            <a:gdLst/>
            <a:ahLst/>
            <a:rect l="l" t="t" r="r" b="b"/>
            <a:pathLst>
              <a:path w="144" h="159">
                <a:moveTo>
                  <a:pt x="0" y="159"/>
                </a:moveTo>
                <a:cubicBezTo>
                  <a:pt x="3" y="144"/>
                  <a:pt x="23" y="93"/>
                  <a:pt x="31" y="69"/>
                </a:cubicBezTo>
                <a:cubicBezTo>
                  <a:pt x="39" y="44"/>
                  <a:pt x="63" y="11"/>
                  <a:pt x="63" y="11"/>
                </a:cubicBezTo>
                <a:cubicBezTo>
                  <a:pt x="73" y="10"/>
                  <a:pt x="111" y="0"/>
                  <a:pt x="123" y="25"/>
                </a:cubicBezTo>
                <a:cubicBezTo>
                  <a:pt x="136" y="49"/>
                  <a:pt x="140" y="126"/>
                  <a:pt x="144" y="153"/>
                </a:cubicBezTo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02080" y="4548240"/>
            <a:ext cx="163440" cy="173160"/>
          </a:xfrm>
          <a:custGeom>
            <a:avLst/>
            <a:gdLst/>
            <a:ahLst/>
            <a:rect l="l" t="t" r="r" b="b"/>
            <a:pathLst>
              <a:path w="103" h="109">
                <a:moveTo>
                  <a:pt x="0" y="109"/>
                </a:moveTo>
                <a:cubicBezTo>
                  <a:pt x="2" y="98"/>
                  <a:pt x="19" y="61"/>
                  <a:pt x="25" y="43"/>
                </a:cubicBezTo>
                <a:cubicBezTo>
                  <a:pt x="32" y="25"/>
                  <a:pt x="51" y="1"/>
                  <a:pt x="51" y="1"/>
                </a:cubicBezTo>
                <a:cubicBezTo>
                  <a:pt x="59" y="0"/>
                  <a:pt x="77" y="7"/>
                  <a:pt x="88" y="24"/>
                </a:cubicBezTo>
                <a:cubicBezTo>
                  <a:pt x="97" y="42"/>
                  <a:pt x="100" y="91"/>
                  <a:pt x="103" y="109"/>
                </a:cubicBezTo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933720" y="4600440"/>
            <a:ext cx="150840" cy="112680"/>
          </a:xfrm>
          <a:custGeom>
            <a:avLst/>
            <a:gdLst/>
            <a:ahLst/>
            <a:rect l="l" t="t" r="r" b="b"/>
            <a:pathLst>
              <a:path w="138" h="106">
                <a:moveTo>
                  <a:pt x="0" y="106"/>
                </a:moveTo>
                <a:cubicBezTo>
                  <a:pt x="3" y="95"/>
                  <a:pt x="23" y="59"/>
                  <a:pt x="31" y="42"/>
                </a:cubicBezTo>
                <a:cubicBezTo>
                  <a:pt x="39" y="24"/>
                  <a:pt x="63" y="1"/>
                  <a:pt x="63" y="1"/>
                </a:cubicBezTo>
                <a:cubicBezTo>
                  <a:pt x="73" y="0"/>
                  <a:pt x="104" y="15"/>
                  <a:pt x="116" y="32"/>
                </a:cubicBezTo>
                <a:cubicBezTo>
                  <a:pt x="128" y="49"/>
                  <a:pt x="133" y="91"/>
                  <a:pt x="138" y="106"/>
                </a:cubicBezTo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48120" y="4724280"/>
            <a:ext cx="320040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Premium Service Example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24080" y="1371600"/>
            <a:ext cx="3353040" cy="175248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048120" y="2057400"/>
            <a:ext cx="30456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14800" y="2057400"/>
            <a:ext cx="304920" cy="30492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1676520"/>
            <a:ext cx="1600200" cy="129060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238880" y="1600200"/>
            <a:ext cx="1600200" cy="113832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" y="4495680"/>
            <a:ext cx="2222640" cy="871560"/>
          </a:xfrm>
          <a:custGeom>
            <a:avLst/>
            <a:gdLst/>
            <a:ahLst/>
            <a:rect l="l" t="t" r="r" b="b"/>
            <a:pathLst>
              <a:path w="1400" h="549">
                <a:moveTo>
                  <a:pt x="0" y="549"/>
                </a:moveTo>
                <a:cubicBezTo>
                  <a:pt x="24" y="442"/>
                  <a:pt x="2" y="167"/>
                  <a:pt x="142" y="71"/>
                </a:cubicBezTo>
                <a:cubicBezTo>
                  <a:pt x="193" y="88"/>
                  <a:pt x="166" y="69"/>
                  <a:pt x="185" y="129"/>
                </a:cubicBezTo>
                <a:cubicBezTo>
                  <a:pt x="188" y="140"/>
                  <a:pt x="195" y="161"/>
                  <a:pt x="195" y="161"/>
                </a:cubicBezTo>
                <a:cubicBezTo>
                  <a:pt x="197" y="182"/>
                  <a:pt x="191" y="206"/>
                  <a:pt x="200" y="225"/>
                </a:cubicBezTo>
                <a:cubicBezTo>
                  <a:pt x="207" y="241"/>
                  <a:pt x="229" y="215"/>
                  <a:pt x="238" y="199"/>
                </a:cubicBezTo>
                <a:cubicBezTo>
                  <a:pt x="269" y="148"/>
                  <a:pt x="290" y="33"/>
                  <a:pt x="343" y="0"/>
                </a:cubicBezTo>
                <a:cubicBezTo>
                  <a:pt x="371" y="7"/>
                  <a:pt x="370" y="56"/>
                  <a:pt x="386" y="79"/>
                </a:cubicBezTo>
                <a:cubicBezTo>
                  <a:pt x="397" y="113"/>
                  <a:pt x="396" y="149"/>
                  <a:pt x="408" y="183"/>
                </a:cubicBezTo>
                <a:cubicBezTo>
                  <a:pt x="414" y="200"/>
                  <a:pt x="434" y="230"/>
                  <a:pt x="434" y="230"/>
                </a:cubicBezTo>
                <a:cubicBezTo>
                  <a:pt x="447" y="271"/>
                  <a:pt x="483" y="235"/>
                  <a:pt x="498" y="214"/>
                </a:cubicBezTo>
                <a:cubicBezTo>
                  <a:pt x="505" y="185"/>
                  <a:pt x="518" y="154"/>
                  <a:pt x="535" y="129"/>
                </a:cubicBezTo>
                <a:cubicBezTo>
                  <a:pt x="542" y="108"/>
                  <a:pt x="549" y="99"/>
                  <a:pt x="567" y="87"/>
                </a:cubicBezTo>
                <a:cubicBezTo>
                  <a:pt x="578" y="89"/>
                  <a:pt x="590" y="86"/>
                  <a:pt x="599" y="92"/>
                </a:cubicBezTo>
                <a:cubicBezTo>
                  <a:pt x="603" y="95"/>
                  <a:pt x="613" y="145"/>
                  <a:pt x="615" y="151"/>
                </a:cubicBezTo>
                <a:cubicBezTo>
                  <a:pt x="617" y="202"/>
                  <a:pt x="618" y="254"/>
                  <a:pt x="620" y="305"/>
                </a:cubicBezTo>
                <a:cubicBezTo>
                  <a:pt x="622" y="347"/>
                  <a:pt x="621" y="493"/>
                  <a:pt x="673" y="512"/>
                </a:cubicBezTo>
                <a:cubicBezTo>
                  <a:pt x="690" y="505"/>
                  <a:pt x="705" y="501"/>
                  <a:pt x="721" y="491"/>
                </a:cubicBezTo>
                <a:cubicBezTo>
                  <a:pt x="743" y="456"/>
                  <a:pt x="746" y="409"/>
                  <a:pt x="753" y="368"/>
                </a:cubicBezTo>
                <a:cubicBezTo>
                  <a:pt x="764" y="306"/>
                  <a:pt x="784" y="245"/>
                  <a:pt x="795" y="183"/>
                </a:cubicBezTo>
                <a:cubicBezTo>
                  <a:pt x="802" y="145"/>
                  <a:pt x="815" y="110"/>
                  <a:pt x="832" y="76"/>
                </a:cubicBezTo>
                <a:cubicBezTo>
                  <a:pt x="839" y="61"/>
                  <a:pt x="848" y="29"/>
                  <a:pt x="848" y="29"/>
                </a:cubicBezTo>
                <a:cubicBezTo>
                  <a:pt x="855" y="31"/>
                  <a:pt x="863" y="30"/>
                  <a:pt x="869" y="34"/>
                </a:cubicBezTo>
                <a:cubicBezTo>
                  <a:pt x="876" y="40"/>
                  <a:pt x="885" y="82"/>
                  <a:pt x="896" y="98"/>
                </a:cubicBezTo>
                <a:cubicBezTo>
                  <a:pt x="912" y="149"/>
                  <a:pt x="925" y="200"/>
                  <a:pt x="939" y="252"/>
                </a:cubicBezTo>
                <a:cubicBezTo>
                  <a:pt x="940" y="273"/>
                  <a:pt x="931" y="395"/>
                  <a:pt x="965" y="421"/>
                </a:cubicBezTo>
                <a:cubicBezTo>
                  <a:pt x="968" y="423"/>
                  <a:pt x="994" y="431"/>
                  <a:pt x="997" y="432"/>
                </a:cubicBezTo>
                <a:cubicBezTo>
                  <a:pt x="1034" y="422"/>
                  <a:pt x="1050" y="421"/>
                  <a:pt x="1071" y="390"/>
                </a:cubicBezTo>
                <a:cubicBezTo>
                  <a:pt x="1080" y="377"/>
                  <a:pt x="1098" y="352"/>
                  <a:pt x="1098" y="352"/>
                </a:cubicBezTo>
                <a:cubicBezTo>
                  <a:pt x="1115" y="301"/>
                  <a:pt x="1140" y="280"/>
                  <a:pt x="1188" y="262"/>
                </a:cubicBezTo>
                <a:cubicBezTo>
                  <a:pt x="1235" y="248"/>
                  <a:pt x="1312" y="219"/>
                  <a:pt x="1347" y="265"/>
                </a:cubicBezTo>
                <a:cubicBezTo>
                  <a:pt x="1382" y="311"/>
                  <a:pt x="1389" y="484"/>
                  <a:pt x="1400" y="541"/>
                </a:cubicBez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4699080"/>
            <a:ext cx="2222640" cy="631800"/>
          </a:xfrm>
          <a:custGeom>
            <a:avLst/>
            <a:gdLst/>
            <a:ahLst/>
            <a:rect l="l" t="t" r="r" b="b"/>
            <a:pathLst>
              <a:path w="1400" h="398">
                <a:moveTo>
                  <a:pt x="0" y="398"/>
                </a:moveTo>
                <a:cubicBezTo>
                  <a:pt x="24" y="295"/>
                  <a:pt x="7" y="133"/>
                  <a:pt x="81" y="11"/>
                </a:cubicBezTo>
                <a:cubicBezTo>
                  <a:pt x="132" y="28"/>
                  <a:pt x="113" y="5"/>
                  <a:pt x="198" y="11"/>
                </a:cubicBezTo>
                <a:cubicBezTo>
                  <a:pt x="218" y="24"/>
                  <a:pt x="193" y="77"/>
                  <a:pt x="200" y="86"/>
                </a:cubicBezTo>
                <a:cubicBezTo>
                  <a:pt x="207" y="102"/>
                  <a:pt x="229" y="77"/>
                  <a:pt x="238" y="61"/>
                </a:cubicBezTo>
                <a:cubicBezTo>
                  <a:pt x="269" y="12"/>
                  <a:pt x="219" y="37"/>
                  <a:pt x="272" y="5"/>
                </a:cubicBezTo>
                <a:cubicBezTo>
                  <a:pt x="300" y="12"/>
                  <a:pt x="405" y="0"/>
                  <a:pt x="410" y="16"/>
                </a:cubicBezTo>
                <a:cubicBezTo>
                  <a:pt x="421" y="49"/>
                  <a:pt x="396" y="13"/>
                  <a:pt x="408" y="46"/>
                </a:cubicBezTo>
                <a:cubicBezTo>
                  <a:pt x="414" y="62"/>
                  <a:pt x="434" y="91"/>
                  <a:pt x="434" y="91"/>
                </a:cubicBezTo>
                <a:cubicBezTo>
                  <a:pt x="447" y="131"/>
                  <a:pt x="483" y="96"/>
                  <a:pt x="498" y="76"/>
                </a:cubicBezTo>
                <a:cubicBezTo>
                  <a:pt x="505" y="48"/>
                  <a:pt x="494" y="40"/>
                  <a:pt x="511" y="16"/>
                </a:cubicBezTo>
                <a:cubicBezTo>
                  <a:pt x="528" y="5"/>
                  <a:pt x="580" y="11"/>
                  <a:pt x="607" y="11"/>
                </a:cubicBezTo>
                <a:cubicBezTo>
                  <a:pt x="625" y="36"/>
                  <a:pt x="608" y="105"/>
                  <a:pt x="620" y="163"/>
                </a:cubicBezTo>
                <a:cubicBezTo>
                  <a:pt x="622" y="204"/>
                  <a:pt x="621" y="344"/>
                  <a:pt x="673" y="362"/>
                </a:cubicBezTo>
                <a:cubicBezTo>
                  <a:pt x="690" y="356"/>
                  <a:pt x="705" y="352"/>
                  <a:pt x="721" y="342"/>
                </a:cubicBezTo>
                <a:cubicBezTo>
                  <a:pt x="743" y="309"/>
                  <a:pt x="746" y="263"/>
                  <a:pt x="753" y="224"/>
                </a:cubicBezTo>
                <a:cubicBezTo>
                  <a:pt x="764" y="164"/>
                  <a:pt x="784" y="106"/>
                  <a:pt x="795" y="46"/>
                </a:cubicBezTo>
                <a:cubicBezTo>
                  <a:pt x="802" y="9"/>
                  <a:pt x="791" y="54"/>
                  <a:pt x="808" y="21"/>
                </a:cubicBezTo>
                <a:cubicBezTo>
                  <a:pt x="825" y="7"/>
                  <a:pt x="885" y="12"/>
                  <a:pt x="911" y="18"/>
                </a:cubicBezTo>
                <a:cubicBezTo>
                  <a:pt x="927" y="67"/>
                  <a:pt x="925" y="62"/>
                  <a:pt x="939" y="112"/>
                </a:cubicBezTo>
                <a:cubicBezTo>
                  <a:pt x="940" y="133"/>
                  <a:pt x="931" y="250"/>
                  <a:pt x="965" y="275"/>
                </a:cubicBezTo>
                <a:cubicBezTo>
                  <a:pt x="968" y="277"/>
                  <a:pt x="994" y="285"/>
                  <a:pt x="997" y="285"/>
                </a:cubicBezTo>
                <a:cubicBezTo>
                  <a:pt x="1034" y="276"/>
                  <a:pt x="1050" y="275"/>
                  <a:pt x="1071" y="245"/>
                </a:cubicBezTo>
                <a:cubicBezTo>
                  <a:pt x="1080" y="233"/>
                  <a:pt x="1098" y="209"/>
                  <a:pt x="1098" y="209"/>
                </a:cubicBezTo>
                <a:cubicBezTo>
                  <a:pt x="1115" y="159"/>
                  <a:pt x="1140" y="139"/>
                  <a:pt x="1188" y="122"/>
                </a:cubicBezTo>
                <a:cubicBezTo>
                  <a:pt x="1235" y="109"/>
                  <a:pt x="1312" y="81"/>
                  <a:pt x="1347" y="125"/>
                </a:cubicBezTo>
                <a:cubicBezTo>
                  <a:pt x="1382" y="169"/>
                  <a:pt x="1389" y="335"/>
                  <a:pt x="1400" y="390"/>
                </a:cubicBez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2209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2057400"/>
            <a:ext cx="304920" cy="30492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324480" y="2057400"/>
            <a:ext cx="30492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19720" y="22096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62720" y="2209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48120" y="53341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47242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29160" y="539568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xed Bandwid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57400" y="2057400"/>
            <a:ext cx="30492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162920" y="2057400"/>
            <a:ext cx="30456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769080" y="4724280"/>
            <a:ext cx="2222640" cy="631800"/>
          </a:xfrm>
          <a:custGeom>
            <a:avLst/>
            <a:gdLst/>
            <a:ahLst/>
            <a:rect l="l" t="t" r="r" b="b"/>
            <a:pathLst>
              <a:path w="1400" h="398">
                <a:moveTo>
                  <a:pt x="0" y="398"/>
                </a:moveTo>
                <a:cubicBezTo>
                  <a:pt x="24" y="295"/>
                  <a:pt x="7" y="133"/>
                  <a:pt x="81" y="11"/>
                </a:cubicBezTo>
                <a:cubicBezTo>
                  <a:pt x="132" y="28"/>
                  <a:pt x="113" y="5"/>
                  <a:pt x="198" y="11"/>
                </a:cubicBezTo>
                <a:cubicBezTo>
                  <a:pt x="218" y="24"/>
                  <a:pt x="193" y="77"/>
                  <a:pt x="200" y="86"/>
                </a:cubicBezTo>
                <a:cubicBezTo>
                  <a:pt x="207" y="102"/>
                  <a:pt x="229" y="77"/>
                  <a:pt x="238" y="61"/>
                </a:cubicBezTo>
                <a:cubicBezTo>
                  <a:pt x="269" y="12"/>
                  <a:pt x="219" y="37"/>
                  <a:pt x="272" y="5"/>
                </a:cubicBezTo>
                <a:cubicBezTo>
                  <a:pt x="300" y="12"/>
                  <a:pt x="405" y="0"/>
                  <a:pt x="410" y="16"/>
                </a:cubicBezTo>
                <a:cubicBezTo>
                  <a:pt x="421" y="49"/>
                  <a:pt x="396" y="13"/>
                  <a:pt x="408" y="46"/>
                </a:cubicBezTo>
                <a:cubicBezTo>
                  <a:pt x="414" y="62"/>
                  <a:pt x="434" y="91"/>
                  <a:pt x="434" y="91"/>
                </a:cubicBezTo>
                <a:cubicBezTo>
                  <a:pt x="447" y="131"/>
                  <a:pt x="483" y="96"/>
                  <a:pt x="498" y="76"/>
                </a:cubicBezTo>
                <a:cubicBezTo>
                  <a:pt x="505" y="48"/>
                  <a:pt x="494" y="40"/>
                  <a:pt x="511" y="16"/>
                </a:cubicBezTo>
                <a:cubicBezTo>
                  <a:pt x="528" y="5"/>
                  <a:pt x="580" y="11"/>
                  <a:pt x="607" y="11"/>
                </a:cubicBezTo>
                <a:cubicBezTo>
                  <a:pt x="625" y="36"/>
                  <a:pt x="608" y="105"/>
                  <a:pt x="620" y="163"/>
                </a:cubicBezTo>
                <a:cubicBezTo>
                  <a:pt x="622" y="204"/>
                  <a:pt x="621" y="344"/>
                  <a:pt x="673" y="362"/>
                </a:cubicBezTo>
                <a:cubicBezTo>
                  <a:pt x="690" y="356"/>
                  <a:pt x="705" y="352"/>
                  <a:pt x="721" y="342"/>
                </a:cubicBezTo>
                <a:cubicBezTo>
                  <a:pt x="743" y="309"/>
                  <a:pt x="746" y="263"/>
                  <a:pt x="753" y="224"/>
                </a:cubicBezTo>
                <a:cubicBezTo>
                  <a:pt x="764" y="164"/>
                  <a:pt x="784" y="106"/>
                  <a:pt x="795" y="46"/>
                </a:cubicBezTo>
                <a:cubicBezTo>
                  <a:pt x="802" y="9"/>
                  <a:pt x="791" y="54"/>
                  <a:pt x="808" y="21"/>
                </a:cubicBezTo>
                <a:cubicBezTo>
                  <a:pt x="825" y="7"/>
                  <a:pt x="885" y="12"/>
                  <a:pt x="911" y="18"/>
                </a:cubicBezTo>
                <a:cubicBezTo>
                  <a:pt x="927" y="67"/>
                  <a:pt x="925" y="62"/>
                  <a:pt x="939" y="112"/>
                </a:cubicBezTo>
                <a:cubicBezTo>
                  <a:pt x="940" y="133"/>
                  <a:pt x="931" y="250"/>
                  <a:pt x="965" y="275"/>
                </a:cubicBezTo>
                <a:cubicBezTo>
                  <a:pt x="968" y="277"/>
                  <a:pt x="994" y="285"/>
                  <a:pt x="997" y="285"/>
                </a:cubicBezTo>
                <a:cubicBezTo>
                  <a:pt x="1034" y="276"/>
                  <a:pt x="1050" y="275"/>
                  <a:pt x="1071" y="245"/>
                </a:cubicBezTo>
                <a:cubicBezTo>
                  <a:pt x="1080" y="233"/>
                  <a:pt x="1098" y="209"/>
                  <a:pt x="1098" y="209"/>
                </a:cubicBezTo>
                <a:cubicBezTo>
                  <a:pt x="1115" y="159"/>
                  <a:pt x="1140" y="139"/>
                  <a:pt x="1188" y="122"/>
                </a:cubicBezTo>
                <a:cubicBezTo>
                  <a:pt x="1235" y="109"/>
                  <a:pt x="1312" y="81"/>
                  <a:pt x="1347" y="125"/>
                </a:cubicBezTo>
                <a:cubicBezTo>
                  <a:pt x="1382" y="169"/>
                  <a:pt x="1389" y="335"/>
                  <a:pt x="1400" y="390"/>
                </a:cubicBez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590920" y="5029200"/>
            <a:ext cx="3808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324480" y="5029200"/>
            <a:ext cx="3812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62320" y="2209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629400" y="2209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498120" y="3815640"/>
            <a:ext cx="1212480" cy="3373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Drop alw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3452400" y="4191120"/>
            <a:ext cx="228600" cy="3045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3716280" y="4191120"/>
            <a:ext cx="117360" cy="2286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062240" y="4191120"/>
            <a:ext cx="0" cy="3808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290840" y="4191120"/>
            <a:ext cx="152640" cy="3045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Outline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chitecture and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propos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ing to an end-to-end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Two-bit Differentiated Services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s Assured and Premium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sured and Premium services use similar implementation mechanism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mium service sets P-bi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sured service sets A-bi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 defined building blocks to create a variety of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Two-Bit Border Router Functionality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505320" y="1523880"/>
            <a:ext cx="533160" cy="457200"/>
          </a:xfrm>
          <a:custGeom>
            <a:avLst/>
            <a:gdLst/>
            <a:ahLst/>
            <a:rect l="l" t="t" r="r" b="b"/>
            <a:pathLst>
              <a:path w="432" h="624">
                <a:moveTo>
                  <a:pt x="0" y="0"/>
                </a:moveTo>
                <a:lnTo>
                  <a:pt x="0" y="624"/>
                </a:lnTo>
                <a:lnTo>
                  <a:pt x="432" y="624"/>
                </a:lnTo>
                <a:lnTo>
                  <a:pt x="43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79680" y="2438280"/>
            <a:ext cx="152280" cy="3812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08280" y="2438280"/>
            <a:ext cx="152280" cy="3812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50240" y="2423160"/>
            <a:ext cx="11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29000" y="2209680"/>
            <a:ext cx="762120" cy="762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ait for 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191120" y="2590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765600" y="1973160"/>
            <a:ext cx="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438280" y="2362320"/>
            <a:ext cx="498600" cy="53316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0"/>
                </a:moveTo>
                <a:lnTo>
                  <a:pt x="672" y="0"/>
                </a:lnTo>
                <a:lnTo>
                  <a:pt x="672" y="288"/>
                </a:lnTo>
                <a:lnTo>
                  <a:pt x="0" y="28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9718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870200" y="2590920"/>
            <a:ext cx="49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81280" y="1752480"/>
            <a:ext cx="381240" cy="1526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81280" y="1523880"/>
            <a:ext cx="381240" cy="1526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070000" y="288036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 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237800" y="2437200"/>
            <a:ext cx="129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 Out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24280" y="2286000"/>
            <a:ext cx="7621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-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486400" y="25909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505320" y="4114800"/>
            <a:ext cx="533160" cy="457200"/>
          </a:xfrm>
          <a:custGeom>
            <a:avLst/>
            <a:gdLst/>
            <a:ahLst/>
            <a:rect l="l" t="t" r="r" b="b"/>
            <a:pathLst>
              <a:path w="432" h="624">
                <a:moveTo>
                  <a:pt x="0" y="0"/>
                </a:moveTo>
                <a:lnTo>
                  <a:pt x="0" y="624"/>
                </a:lnTo>
                <a:lnTo>
                  <a:pt x="432" y="624"/>
                </a:lnTo>
                <a:lnTo>
                  <a:pt x="43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50240" y="5013720"/>
            <a:ext cx="11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429000" y="4800600"/>
            <a:ext cx="762120" cy="762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st if 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191120" y="5181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765600" y="4564080"/>
            <a:ext cx="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905120" y="51814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581280" y="4343400"/>
            <a:ext cx="381240" cy="1522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581280" y="4114800"/>
            <a:ext cx="381240" cy="1522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237800" y="5028120"/>
            <a:ext cx="129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 Out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724280" y="4876920"/>
            <a:ext cx="7621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-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86400" y="5181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038480" y="4486320"/>
            <a:ext cx="1855800" cy="544320"/>
          </a:xfrm>
          <a:custGeom>
            <a:avLst/>
            <a:gdLst/>
            <a:ahLst/>
            <a:rect l="l" t="t" r="r" b="b"/>
            <a:pathLst>
              <a:path w="1169" h="343">
                <a:moveTo>
                  <a:pt x="0" y="246"/>
                </a:moveTo>
                <a:lnTo>
                  <a:pt x="420" y="0"/>
                </a:lnTo>
                <a:lnTo>
                  <a:pt x="713" y="0"/>
                </a:lnTo>
                <a:lnTo>
                  <a:pt x="1169" y="343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200640" y="4967280"/>
            <a:ext cx="152640" cy="3808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29240" y="4967280"/>
            <a:ext cx="152640" cy="3808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172200" y="4876920"/>
            <a:ext cx="498600" cy="53316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0"/>
                </a:moveTo>
                <a:lnTo>
                  <a:pt x="672" y="0"/>
                </a:lnTo>
                <a:lnTo>
                  <a:pt x="672" y="288"/>
                </a:lnTo>
                <a:lnTo>
                  <a:pt x="0" y="28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91320" y="540900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 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61080" y="5160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449600" y="425196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122720" y="489312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4120" y="1452960"/>
            <a:ext cx="1942560" cy="3988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remium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4480" y="3891600"/>
            <a:ext cx="1845000" cy="3988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ssured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446480"/>
            <a:ext cx="68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19520" y="4037400"/>
            <a:ext cx="68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Two-bit Internal Router Functionality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371600" y="2145960"/>
            <a:ext cx="1530360" cy="1040040"/>
          </a:xfrm>
          <a:prstGeom prst="flowChartDecision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-bit set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57200" y="26668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04560" y="23612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ckets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895480" y="266688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65680" y="2514600"/>
            <a:ext cx="152280" cy="3808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343400" y="2438280"/>
            <a:ext cx="650880" cy="53352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0"/>
                </a:moveTo>
                <a:lnTo>
                  <a:pt x="672" y="0"/>
                </a:lnTo>
                <a:lnTo>
                  <a:pt x="672" y="288"/>
                </a:lnTo>
                <a:lnTo>
                  <a:pt x="0" y="28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495680" y="2514600"/>
            <a:ext cx="152640" cy="3808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505320" y="3962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65680" y="3809880"/>
            <a:ext cx="152280" cy="3812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09880" y="3733920"/>
            <a:ext cx="1184400" cy="53316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0"/>
                </a:moveTo>
                <a:lnTo>
                  <a:pt x="672" y="0"/>
                </a:lnTo>
                <a:lnTo>
                  <a:pt x="672" y="288"/>
                </a:lnTo>
                <a:lnTo>
                  <a:pt x="0" y="28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495680" y="3809880"/>
            <a:ext cx="152640" cy="3812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267080" y="3809880"/>
            <a:ext cx="152640" cy="3812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426480" y="3427920"/>
            <a:ext cx="161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w Priority 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349080" y="2132640"/>
            <a:ext cx="164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 Priority 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599920" y="3739320"/>
            <a:ext cx="88632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-bit se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_cnt+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133720" y="2930400"/>
            <a:ext cx="457200" cy="1032120"/>
          </a:xfrm>
          <a:custGeom>
            <a:avLst/>
            <a:gdLst/>
            <a:ahLst/>
            <a:rect l="l" t="t" r="r" b="b"/>
            <a:pathLst>
              <a:path w="192" h="624">
                <a:moveTo>
                  <a:pt x="0" y="0"/>
                </a:moveTo>
                <a:lnTo>
                  <a:pt x="0" y="624"/>
                </a:lnTo>
                <a:lnTo>
                  <a:pt x="192" y="624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058840" y="289440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821320" y="243720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973760" y="2666880"/>
            <a:ext cx="2112840" cy="685800"/>
          </a:xfrm>
          <a:custGeom>
            <a:avLst/>
            <a:gdLst/>
            <a:ahLst/>
            <a:rect l="l" t="t" r="r" b="b"/>
            <a:pathLst>
              <a:path w="1344" h="432">
                <a:moveTo>
                  <a:pt x="0" y="0"/>
                </a:moveTo>
                <a:lnTo>
                  <a:pt x="672" y="0"/>
                </a:lnTo>
                <a:lnTo>
                  <a:pt x="1344" y="432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73760" y="3429000"/>
            <a:ext cx="2112840" cy="533520"/>
          </a:xfrm>
          <a:custGeom>
            <a:avLst/>
            <a:gdLst/>
            <a:ahLst/>
            <a:rect l="l" t="t" r="r" b="b"/>
            <a:pathLst>
              <a:path w="1344" h="336">
                <a:moveTo>
                  <a:pt x="0" y="336"/>
                </a:moveTo>
                <a:lnTo>
                  <a:pt x="672" y="336"/>
                </a:lnTo>
                <a:lnTo>
                  <a:pt x="134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87040" y="5034240"/>
            <a:ext cx="1625400" cy="5202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D In/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eue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048120" y="4191120"/>
            <a:ext cx="533160" cy="1066680"/>
          </a:xfrm>
          <a:custGeom>
            <a:avLst/>
            <a:gdLst/>
            <a:ahLst/>
            <a:rect l="l" t="t" r="r" b="b"/>
            <a:pathLst>
              <a:path w="336" h="480">
                <a:moveTo>
                  <a:pt x="0" y="0"/>
                </a:moveTo>
                <a:lnTo>
                  <a:pt x="0" y="480"/>
                </a:lnTo>
                <a:lnTo>
                  <a:pt x="336" y="480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571720" y="4272480"/>
            <a:ext cx="88632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-bit se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_cnt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943600" y="3962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257800" y="4724280"/>
            <a:ext cx="762120" cy="53352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480" y="0"/>
                </a:moveTo>
                <a:lnTo>
                  <a:pt x="480" y="144"/>
                </a:lnTo>
                <a:lnTo>
                  <a:pt x="0" y="144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4343400" y="42667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162560" y="319932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ckets 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Building Blocks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class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rst hop router, at edges of network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-pattern class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 s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ority que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ping token bu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ing token buc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End-to-End Resource Allocation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soft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fferentiated services in backbon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SVP in smaller network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dwidth bro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entralized control of bandwidth allocation within a domai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gotiate with other neighboring bandwidth broker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c allocations at first, but evolving toward dynamic allocations in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Basic Ideas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iated services provide a way to specify the relative priority of pa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data is more important than other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who pay for better service get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5257800"/>
            <a:ext cx="1447920" cy="1017720"/>
          </a:xfrm>
          <a:custGeom>
            <a:avLst/>
            <a:gdLst/>
            <a:ahLst/>
            <a:rect l="l" t="t" r="r" b="b"/>
            <a:pathLst>
              <a:path w="482" h="401">
                <a:moveTo>
                  <a:pt x="46" y="211"/>
                </a:moveTo>
                <a:cubicBezTo>
                  <a:pt x="27" y="220"/>
                  <a:pt x="14" y="227"/>
                  <a:pt x="0" y="242"/>
                </a:cubicBezTo>
                <a:cubicBezTo>
                  <a:pt x="2" y="257"/>
                  <a:pt x="0" y="273"/>
                  <a:pt x="5" y="288"/>
                </a:cubicBezTo>
                <a:cubicBezTo>
                  <a:pt x="20" y="334"/>
                  <a:pt x="61" y="340"/>
                  <a:pt x="102" y="344"/>
                </a:cubicBezTo>
                <a:cubicBezTo>
                  <a:pt x="117" y="376"/>
                  <a:pt x="106" y="360"/>
                  <a:pt x="138" y="390"/>
                </a:cubicBezTo>
                <a:cubicBezTo>
                  <a:pt x="149" y="401"/>
                  <a:pt x="184" y="401"/>
                  <a:pt x="184" y="401"/>
                </a:cubicBezTo>
                <a:cubicBezTo>
                  <a:pt x="198" y="399"/>
                  <a:pt x="212" y="398"/>
                  <a:pt x="225" y="395"/>
                </a:cubicBezTo>
                <a:cubicBezTo>
                  <a:pt x="236" y="393"/>
                  <a:pt x="256" y="385"/>
                  <a:pt x="256" y="385"/>
                </a:cubicBezTo>
                <a:cubicBezTo>
                  <a:pt x="272" y="369"/>
                  <a:pt x="285" y="357"/>
                  <a:pt x="297" y="339"/>
                </a:cubicBezTo>
                <a:cubicBezTo>
                  <a:pt x="323" y="356"/>
                  <a:pt x="306" y="347"/>
                  <a:pt x="348" y="360"/>
                </a:cubicBezTo>
                <a:cubicBezTo>
                  <a:pt x="358" y="363"/>
                  <a:pt x="379" y="370"/>
                  <a:pt x="379" y="370"/>
                </a:cubicBezTo>
                <a:cubicBezTo>
                  <a:pt x="397" y="361"/>
                  <a:pt x="407" y="350"/>
                  <a:pt x="425" y="344"/>
                </a:cubicBezTo>
                <a:cubicBezTo>
                  <a:pt x="454" y="318"/>
                  <a:pt x="464" y="295"/>
                  <a:pt x="471" y="257"/>
                </a:cubicBezTo>
                <a:cubicBezTo>
                  <a:pt x="469" y="252"/>
                  <a:pt x="470" y="246"/>
                  <a:pt x="466" y="242"/>
                </a:cubicBezTo>
                <a:cubicBezTo>
                  <a:pt x="462" y="238"/>
                  <a:pt x="451" y="241"/>
                  <a:pt x="451" y="236"/>
                </a:cubicBezTo>
                <a:cubicBezTo>
                  <a:pt x="451" y="228"/>
                  <a:pt x="462" y="223"/>
                  <a:pt x="466" y="216"/>
                </a:cubicBezTo>
                <a:cubicBezTo>
                  <a:pt x="476" y="200"/>
                  <a:pt x="477" y="196"/>
                  <a:pt x="482" y="180"/>
                </a:cubicBezTo>
                <a:cubicBezTo>
                  <a:pt x="477" y="141"/>
                  <a:pt x="476" y="118"/>
                  <a:pt x="436" y="108"/>
                </a:cubicBezTo>
                <a:cubicBezTo>
                  <a:pt x="421" y="45"/>
                  <a:pt x="423" y="44"/>
                  <a:pt x="359" y="31"/>
                </a:cubicBezTo>
                <a:cubicBezTo>
                  <a:pt x="338" y="38"/>
                  <a:pt x="334" y="49"/>
                  <a:pt x="312" y="42"/>
                </a:cubicBezTo>
                <a:cubicBezTo>
                  <a:pt x="296" y="25"/>
                  <a:pt x="278" y="9"/>
                  <a:pt x="256" y="0"/>
                </a:cubicBezTo>
                <a:cubicBezTo>
                  <a:pt x="241" y="3"/>
                  <a:pt x="223" y="2"/>
                  <a:pt x="210" y="11"/>
                </a:cubicBezTo>
                <a:cubicBezTo>
                  <a:pt x="200" y="18"/>
                  <a:pt x="184" y="36"/>
                  <a:pt x="184" y="36"/>
                </a:cubicBezTo>
                <a:cubicBezTo>
                  <a:pt x="179" y="31"/>
                  <a:pt x="175" y="24"/>
                  <a:pt x="169" y="21"/>
                </a:cubicBezTo>
                <a:cubicBezTo>
                  <a:pt x="159" y="16"/>
                  <a:pt x="138" y="11"/>
                  <a:pt x="138" y="11"/>
                </a:cubicBezTo>
                <a:cubicBezTo>
                  <a:pt x="116" y="18"/>
                  <a:pt x="111" y="27"/>
                  <a:pt x="97" y="47"/>
                </a:cubicBezTo>
                <a:cubicBezTo>
                  <a:pt x="85" y="82"/>
                  <a:pt x="84" y="67"/>
                  <a:pt x="92" y="93"/>
                </a:cubicBezTo>
                <a:cubicBezTo>
                  <a:pt x="67" y="110"/>
                  <a:pt x="49" y="118"/>
                  <a:pt x="25" y="139"/>
                </a:cubicBezTo>
                <a:cubicBezTo>
                  <a:pt x="14" y="172"/>
                  <a:pt x="10" y="186"/>
                  <a:pt x="46" y="195"/>
                </a:cubicBezTo>
                <a:cubicBezTo>
                  <a:pt x="41" y="213"/>
                  <a:pt x="35" y="211"/>
                  <a:pt x="46" y="211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5181480"/>
            <a:ext cx="1600200" cy="1094040"/>
          </a:xfrm>
          <a:custGeom>
            <a:avLst/>
            <a:gdLst/>
            <a:ahLst/>
            <a:rect l="l" t="t" r="r" b="b"/>
            <a:pathLst>
              <a:path w="482" h="401">
                <a:moveTo>
                  <a:pt x="46" y="211"/>
                </a:moveTo>
                <a:cubicBezTo>
                  <a:pt x="27" y="220"/>
                  <a:pt x="14" y="227"/>
                  <a:pt x="0" y="242"/>
                </a:cubicBezTo>
                <a:cubicBezTo>
                  <a:pt x="2" y="257"/>
                  <a:pt x="0" y="273"/>
                  <a:pt x="5" y="288"/>
                </a:cubicBezTo>
                <a:cubicBezTo>
                  <a:pt x="20" y="334"/>
                  <a:pt x="61" y="340"/>
                  <a:pt x="102" y="344"/>
                </a:cubicBezTo>
                <a:cubicBezTo>
                  <a:pt x="117" y="376"/>
                  <a:pt x="106" y="360"/>
                  <a:pt x="138" y="390"/>
                </a:cubicBezTo>
                <a:cubicBezTo>
                  <a:pt x="149" y="401"/>
                  <a:pt x="184" y="401"/>
                  <a:pt x="184" y="401"/>
                </a:cubicBezTo>
                <a:cubicBezTo>
                  <a:pt x="198" y="399"/>
                  <a:pt x="212" y="398"/>
                  <a:pt x="225" y="395"/>
                </a:cubicBezTo>
                <a:cubicBezTo>
                  <a:pt x="236" y="393"/>
                  <a:pt x="256" y="385"/>
                  <a:pt x="256" y="385"/>
                </a:cubicBezTo>
                <a:cubicBezTo>
                  <a:pt x="272" y="369"/>
                  <a:pt x="285" y="357"/>
                  <a:pt x="297" y="339"/>
                </a:cubicBezTo>
                <a:cubicBezTo>
                  <a:pt x="323" y="356"/>
                  <a:pt x="306" y="347"/>
                  <a:pt x="348" y="360"/>
                </a:cubicBezTo>
                <a:cubicBezTo>
                  <a:pt x="358" y="363"/>
                  <a:pt x="379" y="370"/>
                  <a:pt x="379" y="370"/>
                </a:cubicBezTo>
                <a:cubicBezTo>
                  <a:pt x="397" y="361"/>
                  <a:pt x="407" y="350"/>
                  <a:pt x="425" y="344"/>
                </a:cubicBezTo>
                <a:cubicBezTo>
                  <a:pt x="454" y="318"/>
                  <a:pt x="464" y="295"/>
                  <a:pt x="471" y="257"/>
                </a:cubicBezTo>
                <a:cubicBezTo>
                  <a:pt x="469" y="252"/>
                  <a:pt x="470" y="246"/>
                  <a:pt x="466" y="242"/>
                </a:cubicBezTo>
                <a:cubicBezTo>
                  <a:pt x="462" y="238"/>
                  <a:pt x="451" y="241"/>
                  <a:pt x="451" y="236"/>
                </a:cubicBezTo>
                <a:cubicBezTo>
                  <a:pt x="451" y="228"/>
                  <a:pt x="462" y="223"/>
                  <a:pt x="466" y="216"/>
                </a:cubicBezTo>
                <a:cubicBezTo>
                  <a:pt x="476" y="200"/>
                  <a:pt x="477" y="196"/>
                  <a:pt x="482" y="180"/>
                </a:cubicBezTo>
                <a:cubicBezTo>
                  <a:pt x="477" y="141"/>
                  <a:pt x="476" y="118"/>
                  <a:pt x="436" y="108"/>
                </a:cubicBezTo>
                <a:cubicBezTo>
                  <a:pt x="421" y="45"/>
                  <a:pt x="423" y="44"/>
                  <a:pt x="359" y="31"/>
                </a:cubicBezTo>
                <a:cubicBezTo>
                  <a:pt x="338" y="38"/>
                  <a:pt x="334" y="49"/>
                  <a:pt x="312" y="42"/>
                </a:cubicBezTo>
                <a:cubicBezTo>
                  <a:pt x="296" y="25"/>
                  <a:pt x="278" y="9"/>
                  <a:pt x="256" y="0"/>
                </a:cubicBezTo>
                <a:cubicBezTo>
                  <a:pt x="241" y="3"/>
                  <a:pt x="223" y="2"/>
                  <a:pt x="210" y="11"/>
                </a:cubicBezTo>
                <a:cubicBezTo>
                  <a:pt x="200" y="18"/>
                  <a:pt x="184" y="36"/>
                  <a:pt x="184" y="36"/>
                </a:cubicBezTo>
                <a:cubicBezTo>
                  <a:pt x="179" y="31"/>
                  <a:pt x="175" y="24"/>
                  <a:pt x="169" y="21"/>
                </a:cubicBezTo>
                <a:cubicBezTo>
                  <a:pt x="159" y="16"/>
                  <a:pt x="138" y="11"/>
                  <a:pt x="138" y="11"/>
                </a:cubicBezTo>
                <a:cubicBezTo>
                  <a:pt x="116" y="18"/>
                  <a:pt x="111" y="27"/>
                  <a:pt x="97" y="47"/>
                </a:cubicBezTo>
                <a:cubicBezTo>
                  <a:pt x="85" y="82"/>
                  <a:pt x="84" y="67"/>
                  <a:pt x="92" y="93"/>
                </a:cubicBezTo>
                <a:cubicBezTo>
                  <a:pt x="67" y="110"/>
                  <a:pt x="49" y="118"/>
                  <a:pt x="25" y="139"/>
                </a:cubicBezTo>
                <a:cubicBezTo>
                  <a:pt x="14" y="172"/>
                  <a:pt x="10" y="186"/>
                  <a:pt x="46" y="195"/>
                </a:cubicBezTo>
                <a:cubicBezTo>
                  <a:pt x="41" y="213"/>
                  <a:pt x="35" y="211"/>
                  <a:pt x="46" y="211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5562720"/>
            <a:ext cx="2210040" cy="304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40680" y="501408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jitsu Jap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35240" y="4938120"/>
            <a:ext cx="191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jitsu of Ame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52480" y="5486400"/>
            <a:ext cx="533520" cy="419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248520" y="5334120"/>
            <a:ext cx="533160" cy="419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500640" y="5839560"/>
            <a:ext cx="137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ed Bandwid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209680" y="5638680"/>
            <a:ext cx="4191120" cy="487800"/>
            <a:chOff x="2209680" y="5638680"/>
            <a:chExt cx="4191120" cy="487800"/>
          </a:xfrm>
        </p:grpSpPr>
        <p:grpSp>
          <p:nvGrpSpPr>
            <p:cNvPr id="59" name=""/>
            <p:cNvGrpSpPr/>
            <p:nvPr/>
          </p:nvGrpSpPr>
          <p:grpSpPr>
            <a:xfrm>
              <a:off x="2478600" y="5712840"/>
              <a:ext cx="3355200" cy="413640"/>
              <a:chOff x="2478600" y="5712840"/>
              <a:chExt cx="3355200" cy="413640"/>
            </a:xfrm>
          </p:grpSpPr>
          <p:sp>
            <p:nvSpPr>
              <p:cNvPr id="60" name=""/>
              <p:cNvSpPr/>
              <p:nvPr/>
            </p:nvSpPr>
            <p:spPr>
              <a:xfrm>
                <a:off x="3124080" y="5714640"/>
                <a:ext cx="2210040" cy="76320"/>
              </a:xfrm>
              <a:prstGeom prst="rect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0597400">
                <a:off x="2475000" y="5809680"/>
                <a:ext cx="685800" cy="76320"/>
              </a:xfrm>
              <a:prstGeom prst="rect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995600">
                <a:off x="5243040" y="5887800"/>
                <a:ext cx="621000" cy="74520"/>
              </a:xfrm>
              <a:prstGeom prst="rect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2209680" y="5638680"/>
              <a:ext cx="4191120" cy="75960"/>
              <a:chOff x="2209680" y="5638680"/>
              <a:chExt cx="4191120" cy="75960"/>
            </a:xfrm>
          </p:grpSpPr>
          <p:sp>
            <p:nvSpPr>
              <p:cNvPr id="64" name=""/>
              <p:cNvSpPr/>
              <p:nvPr/>
            </p:nvSpPr>
            <p:spPr>
              <a:xfrm>
                <a:off x="3124080" y="5638680"/>
                <a:ext cx="2210040" cy="759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34120" y="5638680"/>
                <a:ext cx="1066680" cy="759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209680" y="5638680"/>
                <a:ext cx="1067040" cy="759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" name=""/>
          <p:cNvGrpSpPr/>
          <p:nvPr/>
        </p:nvGrpSpPr>
        <p:grpSpPr>
          <a:xfrm>
            <a:off x="2430000" y="5589360"/>
            <a:ext cx="3447720" cy="518040"/>
            <a:chOff x="2430000" y="5589360"/>
            <a:chExt cx="3447720" cy="518040"/>
          </a:xfrm>
        </p:grpSpPr>
        <p:sp>
          <p:nvSpPr>
            <p:cNvPr id="68" name=""/>
            <p:cNvSpPr/>
            <p:nvPr/>
          </p:nvSpPr>
          <p:spPr>
            <a:xfrm rot="20597400">
              <a:off x="2447640" y="5685840"/>
              <a:ext cx="706680" cy="22824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082680" y="5600880"/>
              <a:ext cx="2278440" cy="23148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995600">
              <a:off x="5236920" y="5752800"/>
              <a:ext cx="639720" cy="19476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209680" y="5791320"/>
            <a:ext cx="381240" cy="380880"/>
            <a:chOff x="2209680" y="5791320"/>
            <a:chExt cx="381240" cy="380880"/>
          </a:xfrm>
        </p:grpSpPr>
        <p:sp>
          <p:nvSpPr>
            <p:cNvPr id="72" name=""/>
            <p:cNvSpPr/>
            <p:nvPr/>
          </p:nvSpPr>
          <p:spPr>
            <a:xfrm>
              <a:off x="2305080" y="5816160"/>
              <a:ext cx="190440" cy="22212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09680" y="6083280"/>
              <a:ext cx="381240" cy="88920"/>
            </a:xfrm>
            <a:custGeom>
              <a:avLst/>
              <a:gdLst/>
              <a:ahLst/>
              <a:rect l="l" t="t" r="r" b="b"/>
              <a:pathLst>
                <a:path w="288" h="96">
                  <a:moveTo>
                    <a:pt x="240" y="0"/>
                  </a:moveTo>
                  <a:lnTo>
                    <a:pt x="288" y="96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2304720" y="6083280"/>
              <a:ext cx="471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352600" y="6083280"/>
              <a:ext cx="475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257200" y="6083280"/>
              <a:ext cx="475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75720" y="608328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2400120" y="6083280"/>
              <a:ext cx="475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95520" y="6083280"/>
              <a:ext cx="475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52160" y="6112800"/>
              <a:ext cx="28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42440" y="61462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78080" y="5791320"/>
              <a:ext cx="241920" cy="26496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5715000" y="5943600"/>
            <a:ext cx="380880" cy="380880"/>
            <a:chOff x="5715000" y="5943600"/>
            <a:chExt cx="380880" cy="380880"/>
          </a:xfrm>
        </p:grpSpPr>
        <p:sp>
          <p:nvSpPr>
            <p:cNvPr id="84" name=""/>
            <p:cNvSpPr/>
            <p:nvPr/>
          </p:nvSpPr>
          <p:spPr>
            <a:xfrm>
              <a:off x="5810040" y="5968440"/>
              <a:ext cx="190080" cy="22212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15000" y="6235560"/>
              <a:ext cx="380880" cy="88920"/>
            </a:xfrm>
            <a:custGeom>
              <a:avLst/>
              <a:gdLst/>
              <a:ahLst/>
              <a:rect l="l" t="t" r="r" b="b"/>
              <a:pathLst>
                <a:path w="288" h="96">
                  <a:moveTo>
                    <a:pt x="240" y="0"/>
                  </a:moveTo>
                  <a:lnTo>
                    <a:pt x="288" y="96"/>
                  </a:lnTo>
                  <a:lnTo>
                    <a:pt x="0" y="96"/>
                  </a:lnTo>
                  <a:lnTo>
                    <a:pt x="48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5809680" y="6235560"/>
              <a:ext cx="471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857560" y="6235560"/>
              <a:ext cx="475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5762520" y="6235560"/>
              <a:ext cx="475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80680" y="62355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5905440" y="6235560"/>
              <a:ext cx="475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000480" y="6235560"/>
              <a:ext cx="475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757480" y="6265080"/>
              <a:ext cx="28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47760" y="6298560"/>
              <a:ext cx="33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83400" y="5943600"/>
              <a:ext cx="241920" cy="26496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056600" y="1224360"/>
            <a:ext cx="7072200" cy="1008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al question is to choose which packets shall be dropped. 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definition of differential service is something like "not mine.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 Christian Hui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Goals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ility to charge differently for different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weight, scalable service discrimination suitable for network backb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per flow state or per flow signaling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loy incrementally, then evol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ild simple system at first, expand if needed in futur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service separate from signa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79f"/>
                </a:solidFill>
                <a:latin typeface="Times New Roman"/>
              </a:rPr>
              <a:t>Comparison to Integrated Services</a:t>
            </a:r>
            <a:endParaRPr b="1" i="1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simpler than Integrate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per flow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ignaling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es traffic into priority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individual link resource allo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er agreements are relatively sta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Architecture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olicy decisions made at network bound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oundary routers implement policy decisions by tagging packets with appropriate priority tag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affic policing at network boundari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policy decisions within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outers within network forward packets according to their priority tag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Architecture Diagram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2819520"/>
            <a:ext cx="2459160" cy="228096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4952880"/>
            <a:ext cx="152280" cy="1526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24480" y="4876920"/>
            <a:ext cx="15264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00600" y="4343400"/>
            <a:ext cx="15228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4267080"/>
            <a:ext cx="2286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4267080"/>
            <a:ext cx="2286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3657600"/>
            <a:ext cx="2286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3657600"/>
            <a:ext cx="2286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4343400"/>
            <a:ext cx="15228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6477120" y="4419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40080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638680" y="449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91320" y="4419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3886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638680" y="3886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3733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44197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2743200"/>
            <a:ext cx="30492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638680" y="30477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2819520"/>
            <a:ext cx="2458800" cy="2280960"/>
          </a:xfrm>
          <a:custGeom>
            <a:avLst/>
            <a:gdLst/>
            <a:ahLst/>
            <a:rect l="l" t="t" r="r" b="b"/>
            <a:pathLst>
              <a:path w="1549" h="1437">
                <a:moveTo>
                  <a:pt x="323" y="1093"/>
                </a:moveTo>
                <a:cubicBezTo>
                  <a:pt x="319" y="1130"/>
                  <a:pt x="314" y="1165"/>
                  <a:pt x="308" y="1201"/>
                </a:cubicBezTo>
                <a:cubicBezTo>
                  <a:pt x="323" y="1353"/>
                  <a:pt x="469" y="1424"/>
                  <a:pt x="605" y="1437"/>
                </a:cubicBezTo>
                <a:cubicBezTo>
                  <a:pt x="631" y="1435"/>
                  <a:pt x="657" y="1435"/>
                  <a:pt x="682" y="1431"/>
                </a:cubicBezTo>
                <a:cubicBezTo>
                  <a:pt x="763" y="1418"/>
                  <a:pt x="809" y="1346"/>
                  <a:pt x="856" y="1288"/>
                </a:cubicBezTo>
                <a:cubicBezTo>
                  <a:pt x="858" y="1283"/>
                  <a:pt x="861" y="1278"/>
                  <a:pt x="861" y="1272"/>
                </a:cubicBezTo>
                <a:cubicBezTo>
                  <a:pt x="861" y="1265"/>
                  <a:pt x="852" y="1258"/>
                  <a:pt x="856" y="1252"/>
                </a:cubicBezTo>
                <a:cubicBezTo>
                  <a:pt x="859" y="1248"/>
                  <a:pt x="863" y="1259"/>
                  <a:pt x="867" y="1262"/>
                </a:cubicBezTo>
                <a:cubicBezTo>
                  <a:pt x="880" y="1271"/>
                  <a:pt x="894" y="1279"/>
                  <a:pt x="908" y="1288"/>
                </a:cubicBezTo>
                <a:cubicBezTo>
                  <a:pt x="927" y="1300"/>
                  <a:pt x="963" y="1303"/>
                  <a:pt x="985" y="1308"/>
                </a:cubicBezTo>
                <a:cubicBezTo>
                  <a:pt x="1031" y="1306"/>
                  <a:pt x="1077" y="1307"/>
                  <a:pt x="1123" y="1303"/>
                </a:cubicBezTo>
                <a:cubicBezTo>
                  <a:pt x="1137" y="1302"/>
                  <a:pt x="1164" y="1293"/>
                  <a:pt x="1164" y="1293"/>
                </a:cubicBezTo>
                <a:cubicBezTo>
                  <a:pt x="1220" y="1261"/>
                  <a:pt x="1269" y="1233"/>
                  <a:pt x="1308" y="1180"/>
                </a:cubicBezTo>
                <a:cubicBezTo>
                  <a:pt x="1315" y="1160"/>
                  <a:pt x="1323" y="1140"/>
                  <a:pt x="1328" y="1119"/>
                </a:cubicBezTo>
                <a:cubicBezTo>
                  <a:pt x="1330" y="1097"/>
                  <a:pt x="1328" y="1074"/>
                  <a:pt x="1333" y="1052"/>
                </a:cubicBezTo>
                <a:cubicBezTo>
                  <a:pt x="1336" y="1038"/>
                  <a:pt x="1375" y="1020"/>
                  <a:pt x="1385" y="1011"/>
                </a:cubicBezTo>
                <a:cubicBezTo>
                  <a:pt x="1422" y="978"/>
                  <a:pt x="1451" y="930"/>
                  <a:pt x="1492" y="903"/>
                </a:cubicBezTo>
                <a:cubicBezTo>
                  <a:pt x="1508" y="874"/>
                  <a:pt x="1529" y="848"/>
                  <a:pt x="1538" y="816"/>
                </a:cubicBezTo>
                <a:cubicBezTo>
                  <a:pt x="1542" y="801"/>
                  <a:pt x="1549" y="770"/>
                  <a:pt x="1549" y="770"/>
                </a:cubicBezTo>
                <a:cubicBezTo>
                  <a:pt x="1544" y="724"/>
                  <a:pt x="1538" y="678"/>
                  <a:pt x="1518" y="636"/>
                </a:cubicBezTo>
                <a:cubicBezTo>
                  <a:pt x="1510" y="594"/>
                  <a:pt x="1517" y="619"/>
                  <a:pt x="1492" y="565"/>
                </a:cubicBezTo>
                <a:cubicBezTo>
                  <a:pt x="1476" y="530"/>
                  <a:pt x="1488" y="523"/>
                  <a:pt x="1461" y="498"/>
                </a:cubicBezTo>
                <a:cubicBezTo>
                  <a:pt x="1477" y="476"/>
                  <a:pt x="1501" y="452"/>
                  <a:pt x="1523" y="436"/>
                </a:cubicBezTo>
                <a:cubicBezTo>
                  <a:pt x="1537" y="393"/>
                  <a:pt x="1532" y="416"/>
                  <a:pt x="1538" y="365"/>
                </a:cubicBezTo>
                <a:cubicBezTo>
                  <a:pt x="1522" y="249"/>
                  <a:pt x="1482" y="214"/>
                  <a:pt x="1390" y="149"/>
                </a:cubicBezTo>
                <a:cubicBezTo>
                  <a:pt x="1342" y="115"/>
                  <a:pt x="1304" y="76"/>
                  <a:pt x="1246" y="62"/>
                </a:cubicBezTo>
                <a:cubicBezTo>
                  <a:pt x="1204" y="66"/>
                  <a:pt x="1192" y="65"/>
                  <a:pt x="1159" y="83"/>
                </a:cubicBezTo>
                <a:cubicBezTo>
                  <a:pt x="1146" y="69"/>
                  <a:pt x="1136" y="50"/>
                  <a:pt x="1123" y="36"/>
                </a:cubicBezTo>
                <a:cubicBezTo>
                  <a:pt x="1104" y="16"/>
                  <a:pt x="1043" y="8"/>
                  <a:pt x="1015" y="1"/>
                </a:cubicBezTo>
                <a:cubicBezTo>
                  <a:pt x="944" y="3"/>
                  <a:pt x="882" y="0"/>
                  <a:pt x="815" y="16"/>
                </a:cubicBezTo>
                <a:cubicBezTo>
                  <a:pt x="780" y="33"/>
                  <a:pt x="751" y="49"/>
                  <a:pt x="723" y="77"/>
                </a:cubicBezTo>
                <a:cubicBezTo>
                  <a:pt x="716" y="98"/>
                  <a:pt x="707" y="112"/>
                  <a:pt x="702" y="134"/>
                </a:cubicBezTo>
                <a:cubicBezTo>
                  <a:pt x="695" y="132"/>
                  <a:pt x="575" y="29"/>
                  <a:pt x="569" y="26"/>
                </a:cubicBezTo>
                <a:cubicBezTo>
                  <a:pt x="560" y="22"/>
                  <a:pt x="451" y="1"/>
                  <a:pt x="415" y="31"/>
                </a:cubicBezTo>
                <a:cubicBezTo>
                  <a:pt x="367" y="35"/>
                  <a:pt x="358" y="104"/>
                  <a:pt x="318" y="108"/>
                </a:cubicBezTo>
                <a:cubicBezTo>
                  <a:pt x="283" y="108"/>
                  <a:pt x="245" y="37"/>
                  <a:pt x="205" y="31"/>
                </a:cubicBezTo>
                <a:cubicBezTo>
                  <a:pt x="167" y="34"/>
                  <a:pt x="111" y="61"/>
                  <a:pt x="77" y="72"/>
                </a:cubicBezTo>
                <a:cubicBezTo>
                  <a:pt x="47" y="105"/>
                  <a:pt x="14" y="124"/>
                  <a:pt x="0" y="170"/>
                </a:cubicBezTo>
                <a:cubicBezTo>
                  <a:pt x="7" y="271"/>
                  <a:pt x="23" y="334"/>
                  <a:pt x="108" y="395"/>
                </a:cubicBezTo>
                <a:cubicBezTo>
                  <a:pt x="122" y="417"/>
                  <a:pt x="116" y="424"/>
                  <a:pt x="92" y="431"/>
                </a:cubicBezTo>
                <a:cubicBezTo>
                  <a:pt x="82" y="438"/>
                  <a:pt x="69" y="443"/>
                  <a:pt x="61" y="452"/>
                </a:cubicBezTo>
                <a:cubicBezTo>
                  <a:pt x="56" y="458"/>
                  <a:pt x="55" y="466"/>
                  <a:pt x="51" y="472"/>
                </a:cubicBezTo>
                <a:cubicBezTo>
                  <a:pt x="48" y="476"/>
                  <a:pt x="44" y="479"/>
                  <a:pt x="41" y="483"/>
                </a:cubicBezTo>
                <a:cubicBezTo>
                  <a:pt x="30" y="516"/>
                  <a:pt x="17" y="522"/>
                  <a:pt x="10" y="560"/>
                </a:cubicBezTo>
                <a:cubicBezTo>
                  <a:pt x="13" y="610"/>
                  <a:pt x="6" y="679"/>
                  <a:pt x="56" y="713"/>
                </a:cubicBezTo>
                <a:cubicBezTo>
                  <a:pt x="66" y="720"/>
                  <a:pt x="77" y="723"/>
                  <a:pt x="87" y="729"/>
                </a:cubicBezTo>
                <a:cubicBezTo>
                  <a:pt x="76" y="751"/>
                  <a:pt x="69" y="757"/>
                  <a:pt x="46" y="765"/>
                </a:cubicBezTo>
                <a:cubicBezTo>
                  <a:pt x="32" y="783"/>
                  <a:pt x="22" y="799"/>
                  <a:pt x="15" y="821"/>
                </a:cubicBezTo>
                <a:cubicBezTo>
                  <a:pt x="17" y="845"/>
                  <a:pt x="17" y="869"/>
                  <a:pt x="20" y="893"/>
                </a:cubicBezTo>
                <a:cubicBezTo>
                  <a:pt x="21" y="898"/>
                  <a:pt x="36" y="928"/>
                  <a:pt x="36" y="929"/>
                </a:cubicBezTo>
                <a:cubicBezTo>
                  <a:pt x="84" y="1045"/>
                  <a:pt x="208" y="1047"/>
                  <a:pt x="313" y="1067"/>
                </a:cubicBezTo>
                <a:cubicBezTo>
                  <a:pt x="320" y="1075"/>
                  <a:pt x="347" y="1093"/>
                  <a:pt x="323" y="1093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4952880"/>
            <a:ext cx="152280" cy="1526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4800600"/>
            <a:ext cx="15228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343400"/>
            <a:ext cx="15264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0" y="4267080"/>
            <a:ext cx="2286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4267080"/>
            <a:ext cx="2286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3657600"/>
            <a:ext cx="2286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3657600"/>
            <a:ext cx="228600" cy="2286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4343400"/>
            <a:ext cx="15264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200400" y="4419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124080" y="4495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362320" y="449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4419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3886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362320" y="3886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76520" y="44197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2743200"/>
            <a:ext cx="30492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362320" y="30477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4419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5562720"/>
            <a:ext cx="765360" cy="636480"/>
          </a:xfrm>
          <a:custGeom>
            <a:avLst/>
            <a:gdLst/>
            <a:ahLst/>
            <a:rect l="l" t="t" r="r" b="b"/>
            <a:pathLst>
              <a:path w="482" h="401">
                <a:moveTo>
                  <a:pt x="46" y="211"/>
                </a:moveTo>
                <a:cubicBezTo>
                  <a:pt x="27" y="220"/>
                  <a:pt x="14" y="227"/>
                  <a:pt x="0" y="242"/>
                </a:cubicBezTo>
                <a:cubicBezTo>
                  <a:pt x="2" y="257"/>
                  <a:pt x="0" y="273"/>
                  <a:pt x="5" y="288"/>
                </a:cubicBezTo>
                <a:cubicBezTo>
                  <a:pt x="20" y="334"/>
                  <a:pt x="61" y="340"/>
                  <a:pt x="102" y="344"/>
                </a:cubicBezTo>
                <a:cubicBezTo>
                  <a:pt x="117" y="376"/>
                  <a:pt x="106" y="360"/>
                  <a:pt x="138" y="390"/>
                </a:cubicBezTo>
                <a:cubicBezTo>
                  <a:pt x="149" y="401"/>
                  <a:pt x="184" y="401"/>
                  <a:pt x="184" y="401"/>
                </a:cubicBezTo>
                <a:cubicBezTo>
                  <a:pt x="198" y="399"/>
                  <a:pt x="212" y="398"/>
                  <a:pt x="225" y="395"/>
                </a:cubicBezTo>
                <a:cubicBezTo>
                  <a:pt x="236" y="393"/>
                  <a:pt x="256" y="385"/>
                  <a:pt x="256" y="385"/>
                </a:cubicBezTo>
                <a:cubicBezTo>
                  <a:pt x="272" y="369"/>
                  <a:pt x="285" y="357"/>
                  <a:pt x="297" y="339"/>
                </a:cubicBezTo>
                <a:cubicBezTo>
                  <a:pt x="323" y="356"/>
                  <a:pt x="306" y="347"/>
                  <a:pt x="348" y="360"/>
                </a:cubicBezTo>
                <a:cubicBezTo>
                  <a:pt x="358" y="363"/>
                  <a:pt x="379" y="370"/>
                  <a:pt x="379" y="370"/>
                </a:cubicBezTo>
                <a:cubicBezTo>
                  <a:pt x="397" y="361"/>
                  <a:pt x="407" y="350"/>
                  <a:pt x="425" y="344"/>
                </a:cubicBezTo>
                <a:cubicBezTo>
                  <a:pt x="454" y="318"/>
                  <a:pt x="464" y="295"/>
                  <a:pt x="471" y="257"/>
                </a:cubicBezTo>
                <a:cubicBezTo>
                  <a:pt x="469" y="252"/>
                  <a:pt x="470" y="246"/>
                  <a:pt x="466" y="242"/>
                </a:cubicBezTo>
                <a:cubicBezTo>
                  <a:pt x="462" y="238"/>
                  <a:pt x="451" y="241"/>
                  <a:pt x="451" y="236"/>
                </a:cubicBezTo>
                <a:cubicBezTo>
                  <a:pt x="451" y="228"/>
                  <a:pt x="462" y="223"/>
                  <a:pt x="466" y="216"/>
                </a:cubicBezTo>
                <a:cubicBezTo>
                  <a:pt x="476" y="200"/>
                  <a:pt x="477" y="196"/>
                  <a:pt x="482" y="180"/>
                </a:cubicBezTo>
                <a:cubicBezTo>
                  <a:pt x="477" y="141"/>
                  <a:pt x="476" y="118"/>
                  <a:pt x="436" y="108"/>
                </a:cubicBezTo>
                <a:cubicBezTo>
                  <a:pt x="421" y="45"/>
                  <a:pt x="423" y="44"/>
                  <a:pt x="359" y="31"/>
                </a:cubicBezTo>
                <a:cubicBezTo>
                  <a:pt x="338" y="38"/>
                  <a:pt x="334" y="49"/>
                  <a:pt x="312" y="42"/>
                </a:cubicBezTo>
                <a:cubicBezTo>
                  <a:pt x="296" y="25"/>
                  <a:pt x="278" y="9"/>
                  <a:pt x="256" y="0"/>
                </a:cubicBezTo>
                <a:cubicBezTo>
                  <a:pt x="241" y="3"/>
                  <a:pt x="223" y="2"/>
                  <a:pt x="210" y="11"/>
                </a:cubicBezTo>
                <a:cubicBezTo>
                  <a:pt x="200" y="18"/>
                  <a:pt x="184" y="36"/>
                  <a:pt x="184" y="36"/>
                </a:cubicBezTo>
                <a:cubicBezTo>
                  <a:pt x="179" y="31"/>
                  <a:pt x="175" y="24"/>
                  <a:pt x="169" y="21"/>
                </a:cubicBezTo>
                <a:cubicBezTo>
                  <a:pt x="159" y="16"/>
                  <a:pt x="138" y="11"/>
                  <a:pt x="138" y="11"/>
                </a:cubicBezTo>
                <a:cubicBezTo>
                  <a:pt x="116" y="18"/>
                  <a:pt x="111" y="27"/>
                  <a:pt x="97" y="47"/>
                </a:cubicBezTo>
                <a:cubicBezTo>
                  <a:pt x="85" y="82"/>
                  <a:pt x="84" y="67"/>
                  <a:pt x="92" y="93"/>
                </a:cubicBezTo>
                <a:cubicBezTo>
                  <a:pt x="67" y="110"/>
                  <a:pt x="49" y="118"/>
                  <a:pt x="25" y="139"/>
                </a:cubicBezTo>
                <a:cubicBezTo>
                  <a:pt x="14" y="172"/>
                  <a:pt x="10" y="186"/>
                  <a:pt x="46" y="195"/>
                </a:cubicBezTo>
                <a:cubicBezTo>
                  <a:pt x="41" y="213"/>
                  <a:pt x="35" y="211"/>
                  <a:pt x="46" y="211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5562720"/>
            <a:ext cx="765360" cy="636480"/>
          </a:xfrm>
          <a:custGeom>
            <a:avLst/>
            <a:gdLst/>
            <a:ahLst/>
            <a:rect l="l" t="t" r="r" b="b"/>
            <a:pathLst>
              <a:path w="482" h="401">
                <a:moveTo>
                  <a:pt x="46" y="211"/>
                </a:moveTo>
                <a:cubicBezTo>
                  <a:pt x="27" y="220"/>
                  <a:pt x="14" y="227"/>
                  <a:pt x="0" y="242"/>
                </a:cubicBezTo>
                <a:cubicBezTo>
                  <a:pt x="2" y="257"/>
                  <a:pt x="0" y="273"/>
                  <a:pt x="5" y="288"/>
                </a:cubicBezTo>
                <a:cubicBezTo>
                  <a:pt x="20" y="334"/>
                  <a:pt x="61" y="340"/>
                  <a:pt x="102" y="344"/>
                </a:cubicBezTo>
                <a:cubicBezTo>
                  <a:pt x="117" y="376"/>
                  <a:pt x="106" y="360"/>
                  <a:pt x="138" y="390"/>
                </a:cubicBezTo>
                <a:cubicBezTo>
                  <a:pt x="149" y="401"/>
                  <a:pt x="184" y="401"/>
                  <a:pt x="184" y="401"/>
                </a:cubicBezTo>
                <a:cubicBezTo>
                  <a:pt x="198" y="399"/>
                  <a:pt x="212" y="398"/>
                  <a:pt x="225" y="395"/>
                </a:cubicBezTo>
                <a:cubicBezTo>
                  <a:pt x="236" y="393"/>
                  <a:pt x="256" y="385"/>
                  <a:pt x="256" y="385"/>
                </a:cubicBezTo>
                <a:cubicBezTo>
                  <a:pt x="272" y="369"/>
                  <a:pt x="285" y="357"/>
                  <a:pt x="297" y="339"/>
                </a:cubicBezTo>
                <a:cubicBezTo>
                  <a:pt x="323" y="356"/>
                  <a:pt x="306" y="347"/>
                  <a:pt x="348" y="360"/>
                </a:cubicBezTo>
                <a:cubicBezTo>
                  <a:pt x="358" y="363"/>
                  <a:pt x="379" y="370"/>
                  <a:pt x="379" y="370"/>
                </a:cubicBezTo>
                <a:cubicBezTo>
                  <a:pt x="397" y="361"/>
                  <a:pt x="407" y="350"/>
                  <a:pt x="425" y="344"/>
                </a:cubicBezTo>
                <a:cubicBezTo>
                  <a:pt x="454" y="318"/>
                  <a:pt x="464" y="295"/>
                  <a:pt x="471" y="257"/>
                </a:cubicBezTo>
                <a:cubicBezTo>
                  <a:pt x="469" y="252"/>
                  <a:pt x="470" y="246"/>
                  <a:pt x="466" y="242"/>
                </a:cubicBezTo>
                <a:cubicBezTo>
                  <a:pt x="462" y="238"/>
                  <a:pt x="451" y="241"/>
                  <a:pt x="451" y="236"/>
                </a:cubicBezTo>
                <a:cubicBezTo>
                  <a:pt x="451" y="228"/>
                  <a:pt x="462" y="223"/>
                  <a:pt x="466" y="216"/>
                </a:cubicBezTo>
                <a:cubicBezTo>
                  <a:pt x="476" y="200"/>
                  <a:pt x="477" y="196"/>
                  <a:pt x="482" y="180"/>
                </a:cubicBezTo>
                <a:cubicBezTo>
                  <a:pt x="477" y="141"/>
                  <a:pt x="476" y="118"/>
                  <a:pt x="436" y="108"/>
                </a:cubicBezTo>
                <a:cubicBezTo>
                  <a:pt x="421" y="45"/>
                  <a:pt x="423" y="44"/>
                  <a:pt x="359" y="31"/>
                </a:cubicBezTo>
                <a:cubicBezTo>
                  <a:pt x="338" y="38"/>
                  <a:pt x="334" y="49"/>
                  <a:pt x="312" y="42"/>
                </a:cubicBezTo>
                <a:cubicBezTo>
                  <a:pt x="296" y="25"/>
                  <a:pt x="278" y="9"/>
                  <a:pt x="256" y="0"/>
                </a:cubicBezTo>
                <a:cubicBezTo>
                  <a:pt x="241" y="3"/>
                  <a:pt x="223" y="2"/>
                  <a:pt x="210" y="11"/>
                </a:cubicBezTo>
                <a:cubicBezTo>
                  <a:pt x="200" y="18"/>
                  <a:pt x="184" y="36"/>
                  <a:pt x="184" y="36"/>
                </a:cubicBezTo>
                <a:cubicBezTo>
                  <a:pt x="179" y="31"/>
                  <a:pt x="175" y="24"/>
                  <a:pt x="169" y="21"/>
                </a:cubicBezTo>
                <a:cubicBezTo>
                  <a:pt x="159" y="16"/>
                  <a:pt x="138" y="11"/>
                  <a:pt x="138" y="11"/>
                </a:cubicBezTo>
                <a:cubicBezTo>
                  <a:pt x="116" y="18"/>
                  <a:pt x="111" y="27"/>
                  <a:pt x="97" y="47"/>
                </a:cubicBezTo>
                <a:cubicBezTo>
                  <a:pt x="85" y="82"/>
                  <a:pt x="84" y="67"/>
                  <a:pt x="92" y="93"/>
                </a:cubicBezTo>
                <a:cubicBezTo>
                  <a:pt x="67" y="110"/>
                  <a:pt x="49" y="118"/>
                  <a:pt x="25" y="139"/>
                </a:cubicBezTo>
                <a:cubicBezTo>
                  <a:pt x="14" y="172"/>
                  <a:pt x="10" y="186"/>
                  <a:pt x="46" y="195"/>
                </a:cubicBezTo>
                <a:cubicBezTo>
                  <a:pt x="41" y="213"/>
                  <a:pt x="35" y="211"/>
                  <a:pt x="46" y="211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4267080"/>
            <a:ext cx="765000" cy="636840"/>
          </a:xfrm>
          <a:custGeom>
            <a:avLst/>
            <a:gdLst/>
            <a:ahLst/>
            <a:rect l="l" t="t" r="r" b="b"/>
            <a:pathLst>
              <a:path w="482" h="401">
                <a:moveTo>
                  <a:pt x="46" y="211"/>
                </a:moveTo>
                <a:cubicBezTo>
                  <a:pt x="27" y="220"/>
                  <a:pt x="14" y="227"/>
                  <a:pt x="0" y="242"/>
                </a:cubicBezTo>
                <a:cubicBezTo>
                  <a:pt x="2" y="257"/>
                  <a:pt x="0" y="273"/>
                  <a:pt x="5" y="288"/>
                </a:cubicBezTo>
                <a:cubicBezTo>
                  <a:pt x="20" y="334"/>
                  <a:pt x="61" y="340"/>
                  <a:pt x="102" y="344"/>
                </a:cubicBezTo>
                <a:cubicBezTo>
                  <a:pt x="117" y="376"/>
                  <a:pt x="106" y="360"/>
                  <a:pt x="138" y="390"/>
                </a:cubicBezTo>
                <a:cubicBezTo>
                  <a:pt x="149" y="401"/>
                  <a:pt x="184" y="401"/>
                  <a:pt x="184" y="401"/>
                </a:cubicBezTo>
                <a:cubicBezTo>
                  <a:pt x="198" y="399"/>
                  <a:pt x="212" y="398"/>
                  <a:pt x="225" y="395"/>
                </a:cubicBezTo>
                <a:cubicBezTo>
                  <a:pt x="236" y="393"/>
                  <a:pt x="256" y="385"/>
                  <a:pt x="256" y="385"/>
                </a:cubicBezTo>
                <a:cubicBezTo>
                  <a:pt x="272" y="369"/>
                  <a:pt x="285" y="357"/>
                  <a:pt x="297" y="339"/>
                </a:cubicBezTo>
                <a:cubicBezTo>
                  <a:pt x="323" y="356"/>
                  <a:pt x="306" y="347"/>
                  <a:pt x="348" y="360"/>
                </a:cubicBezTo>
                <a:cubicBezTo>
                  <a:pt x="358" y="363"/>
                  <a:pt x="379" y="370"/>
                  <a:pt x="379" y="370"/>
                </a:cubicBezTo>
                <a:cubicBezTo>
                  <a:pt x="397" y="361"/>
                  <a:pt x="407" y="350"/>
                  <a:pt x="425" y="344"/>
                </a:cubicBezTo>
                <a:cubicBezTo>
                  <a:pt x="454" y="318"/>
                  <a:pt x="464" y="295"/>
                  <a:pt x="471" y="257"/>
                </a:cubicBezTo>
                <a:cubicBezTo>
                  <a:pt x="469" y="252"/>
                  <a:pt x="470" y="246"/>
                  <a:pt x="466" y="242"/>
                </a:cubicBezTo>
                <a:cubicBezTo>
                  <a:pt x="462" y="238"/>
                  <a:pt x="451" y="241"/>
                  <a:pt x="451" y="236"/>
                </a:cubicBezTo>
                <a:cubicBezTo>
                  <a:pt x="451" y="228"/>
                  <a:pt x="462" y="223"/>
                  <a:pt x="466" y="216"/>
                </a:cubicBezTo>
                <a:cubicBezTo>
                  <a:pt x="476" y="200"/>
                  <a:pt x="477" y="196"/>
                  <a:pt x="482" y="180"/>
                </a:cubicBezTo>
                <a:cubicBezTo>
                  <a:pt x="477" y="141"/>
                  <a:pt x="476" y="118"/>
                  <a:pt x="436" y="108"/>
                </a:cubicBezTo>
                <a:cubicBezTo>
                  <a:pt x="421" y="45"/>
                  <a:pt x="423" y="44"/>
                  <a:pt x="359" y="31"/>
                </a:cubicBezTo>
                <a:cubicBezTo>
                  <a:pt x="338" y="38"/>
                  <a:pt x="334" y="49"/>
                  <a:pt x="312" y="42"/>
                </a:cubicBezTo>
                <a:cubicBezTo>
                  <a:pt x="296" y="25"/>
                  <a:pt x="278" y="9"/>
                  <a:pt x="256" y="0"/>
                </a:cubicBezTo>
                <a:cubicBezTo>
                  <a:pt x="241" y="3"/>
                  <a:pt x="223" y="2"/>
                  <a:pt x="210" y="11"/>
                </a:cubicBezTo>
                <a:cubicBezTo>
                  <a:pt x="200" y="18"/>
                  <a:pt x="184" y="36"/>
                  <a:pt x="184" y="36"/>
                </a:cubicBezTo>
                <a:cubicBezTo>
                  <a:pt x="179" y="31"/>
                  <a:pt x="175" y="24"/>
                  <a:pt x="169" y="21"/>
                </a:cubicBezTo>
                <a:cubicBezTo>
                  <a:pt x="159" y="16"/>
                  <a:pt x="138" y="11"/>
                  <a:pt x="138" y="11"/>
                </a:cubicBezTo>
                <a:cubicBezTo>
                  <a:pt x="116" y="18"/>
                  <a:pt x="111" y="27"/>
                  <a:pt x="97" y="47"/>
                </a:cubicBezTo>
                <a:cubicBezTo>
                  <a:pt x="85" y="82"/>
                  <a:pt x="84" y="67"/>
                  <a:pt x="92" y="93"/>
                </a:cubicBezTo>
                <a:cubicBezTo>
                  <a:pt x="67" y="110"/>
                  <a:pt x="49" y="118"/>
                  <a:pt x="25" y="139"/>
                </a:cubicBezTo>
                <a:cubicBezTo>
                  <a:pt x="14" y="172"/>
                  <a:pt x="10" y="186"/>
                  <a:pt x="46" y="195"/>
                </a:cubicBezTo>
                <a:cubicBezTo>
                  <a:pt x="41" y="213"/>
                  <a:pt x="35" y="211"/>
                  <a:pt x="46" y="211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5638680"/>
            <a:ext cx="765000" cy="636840"/>
          </a:xfrm>
          <a:custGeom>
            <a:avLst/>
            <a:gdLst/>
            <a:ahLst/>
            <a:rect l="l" t="t" r="r" b="b"/>
            <a:pathLst>
              <a:path w="482" h="401">
                <a:moveTo>
                  <a:pt x="46" y="211"/>
                </a:moveTo>
                <a:cubicBezTo>
                  <a:pt x="27" y="220"/>
                  <a:pt x="14" y="227"/>
                  <a:pt x="0" y="242"/>
                </a:cubicBezTo>
                <a:cubicBezTo>
                  <a:pt x="2" y="257"/>
                  <a:pt x="0" y="273"/>
                  <a:pt x="5" y="288"/>
                </a:cubicBezTo>
                <a:cubicBezTo>
                  <a:pt x="20" y="334"/>
                  <a:pt x="61" y="340"/>
                  <a:pt x="102" y="344"/>
                </a:cubicBezTo>
                <a:cubicBezTo>
                  <a:pt x="117" y="376"/>
                  <a:pt x="106" y="360"/>
                  <a:pt x="138" y="390"/>
                </a:cubicBezTo>
                <a:cubicBezTo>
                  <a:pt x="149" y="401"/>
                  <a:pt x="184" y="401"/>
                  <a:pt x="184" y="401"/>
                </a:cubicBezTo>
                <a:cubicBezTo>
                  <a:pt x="198" y="399"/>
                  <a:pt x="212" y="398"/>
                  <a:pt x="225" y="395"/>
                </a:cubicBezTo>
                <a:cubicBezTo>
                  <a:pt x="236" y="393"/>
                  <a:pt x="256" y="385"/>
                  <a:pt x="256" y="385"/>
                </a:cubicBezTo>
                <a:cubicBezTo>
                  <a:pt x="272" y="369"/>
                  <a:pt x="285" y="357"/>
                  <a:pt x="297" y="339"/>
                </a:cubicBezTo>
                <a:cubicBezTo>
                  <a:pt x="323" y="356"/>
                  <a:pt x="306" y="347"/>
                  <a:pt x="348" y="360"/>
                </a:cubicBezTo>
                <a:cubicBezTo>
                  <a:pt x="358" y="363"/>
                  <a:pt x="379" y="370"/>
                  <a:pt x="379" y="370"/>
                </a:cubicBezTo>
                <a:cubicBezTo>
                  <a:pt x="397" y="361"/>
                  <a:pt x="407" y="350"/>
                  <a:pt x="425" y="344"/>
                </a:cubicBezTo>
                <a:cubicBezTo>
                  <a:pt x="454" y="318"/>
                  <a:pt x="464" y="295"/>
                  <a:pt x="471" y="257"/>
                </a:cubicBezTo>
                <a:cubicBezTo>
                  <a:pt x="469" y="252"/>
                  <a:pt x="470" y="246"/>
                  <a:pt x="466" y="242"/>
                </a:cubicBezTo>
                <a:cubicBezTo>
                  <a:pt x="462" y="238"/>
                  <a:pt x="451" y="241"/>
                  <a:pt x="451" y="236"/>
                </a:cubicBezTo>
                <a:cubicBezTo>
                  <a:pt x="451" y="228"/>
                  <a:pt x="462" y="223"/>
                  <a:pt x="466" y="216"/>
                </a:cubicBezTo>
                <a:cubicBezTo>
                  <a:pt x="476" y="200"/>
                  <a:pt x="477" y="196"/>
                  <a:pt x="482" y="180"/>
                </a:cubicBezTo>
                <a:cubicBezTo>
                  <a:pt x="477" y="141"/>
                  <a:pt x="476" y="118"/>
                  <a:pt x="436" y="108"/>
                </a:cubicBezTo>
                <a:cubicBezTo>
                  <a:pt x="421" y="45"/>
                  <a:pt x="423" y="44"/>
                  <a:pt x="359" y="31"/>
                </a:cubicBezTo>
                <a:cubicBezTo>
                  <a:pt x="338" y="38"/>
                  <a:pt x="334" y="49"/>
                  <a:pt x="312" y="42"/>
                </a:cubicBezTo>
                <a:cubicBezTo>
                  <a:pt x="296" y="25"/>
                  <a:pt x="278" y="9"/>
                  <a:pt x="256" y="0"/>
                </a:cubicBezTo>
                <a:cubicBezTo>
                  <a:pt x="241" y="3"/>
                  <a:pt x="223" y="2"/>
                  <a:pt x="210" y="11"/>
                </a:cubicBezTo>
                <a:cubicBezTo>
                  <a:pt x="200" y="18"/>
                  <a:pt x="184" y="36"/>
                  <a:pt x="184" y="36"/>
                </a:cubicBezTo>
                <a:cubicBezTo>
                  <a:pt x="179" y="31"/>
                  <a:pt x="175" y="24"/>
                  <a:pt x="169" y="21"/>
                </a:cubicBezTo>
                <a:cubicBezTo>
                  <a:pt x="159" y="16"/>
                  <a:pt x="138" y="11"/>
                  <a:pt x="138" y="11"/>
                </a:cubicBezTo>
                <a:cubicBezTo>
                  <a:pt x="116" y="18"/>
                  <a:pt x="111" y="27"/>
                  <a:pt x="97" y="47"/>
                </a:cubicBezTo>
                <a:cubicBezTo>
                  <a:pt x="85" y="82"/>
                  <a:pt x="84" y="67"/>
                  <a:pt x="92" y="93"/>
                </a:cubicBezTo>
                <a:cubicBezTo>
                  <a:pt x="67" y="110"/>
                  <a:pt x="49" y="118"/>
                  <a:pt x="25" y="139"/>
                </a:cubicBezTo>
                <a:cubicBezTo>
                  <a:pt x="14" y="172"/>
                  <a:pt x="10" y="186"/>
                  <a:pt x="46" y="195"/>
                </a:cubicBezTo>
                <a:cubicBezTo>
                  <a:pt x="41" y="213"/>
                  <a:pt x="35" y="211"/>
                  <a:pt x="46" y="211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5562720"/>
            <a:ext cx="765360" cy="636480"/>
          </a:xfrm>
          <a:custGeom>
            <a:avLst/>
            <a:gdLst/>
            <a:ahLst/>
            <a:rect l="l" t="t" r="r" b="b"/>
            <a:pathLst>
              <a:path w="482" h="401">
                <a:moveTo>
                  <a:pt x="46" y="211"/>
                </a:moveTo>
                <a:cubicBezTo>
                  <a:pt x="27" y="220"/>
                  <a:pt x="14" y="227"/>
                  <a:pt x="0" y="242"/>
                </a:cubicBezTo>
                <a:cubicBezTo>
                  <a:pt x="2" y="257"/>
                  <a:pt x="0" y="273"/>
                  <a:pt x="5" y="288"/>
                </a:cubicBezTo>
                <a:cubicBezTo>
                  <a:pt x="20" y="334"/>
                  <a:pt x="61" y="340"/>
                  <a:pt x="102" y="344"/>
                </a:cubicBezTo>
                <a:cubicBezTo>
                  <a:pt x="117" y="376"/>
                  <a:pt x="106" y="360"/>
                  <a:pt x="138" y="390"/>
                </a:cubicBezTo>
                <a:cubicBezTo>
                  <a:pt x="149" y="401"/>
                  <a:pt x="184" y="401"/>
                  <a:pt x="184" y="401"/>
                </a:cubicBezTo>
                <a:cubicBezTo>
                  <a:pt x="198" y="399"/>
                  <a:pt x="212" y="398"/>
                  <a:pt x="225" y="395"/>
                </a:cubicBezTo>
                <a:cubicBezTo>
                  <a:pt x="236" y="393"/>
                  <a:pt x="256" y="385"/>
                  <a:pt x="256" y="385"/>
                </a:cubicBezTo>
                <a:cubicBezTo>
                  <a:pt x="272" y="369"/>
                  <a:pt x="285" y="357"/>
                  <a:pt x="297" y="339"/>
                </a:cubicBezTo>
                <a:cubicBezTo>
                  <a:pt x="323" y="356"/>
                  <a:pt x="306" y="347"/>
                  <a:pt x="348" y="360"/>
                </a:cubicBezTo>
                <a:cubicBezTo>
                  <a:pt x="358" y="363"/>
                  <a:pt x="379" y="370"/>
                  <a:pt x="379" y="370"/>
                </a:cubicBezTo>
                <a:cubicBezTo>
                  <a:pt x="397" y="361"/>
                  <a:pt x="407" y="350"/>
                  <a:pt x="425" y="344"/>
                </a:cubicBezTo>
                <a:cubicBezTo>
                  <a:pt x="454" y="318"/>
                  <a:pt x="464" y="295"/>
                  <a:pt x="471" y="257"/>
                </a:cubicBezTo>
                <a:cubicBezTo>
                  <a:pt x="469" y="252"/>
                  <a:pt x="470" y="246"/>
                  <a:pt x="466" y="242"/>
                </a:cubicBezTo>
                <a:cubicBezTo>
                  <a:pt x="462" y="238"/>
                  <a:pt x="451" y="241"/>
                  <a:pt x="451" y="236"/>
                </a:cubicBezTo>
                <a:cubicBezTo>
                  <a:pt x="451" y="228"/>
                  <a:pt x="462" y="223"/>
                  <a:pt x="466" y="216"/>
                </a:cubicBezTo>
                <a:cubicBezTo>
                  <a:pt x="476" y="200"/>
                  <a:pt x="477" y="196"/>
                  <a:pt x="482" y="180"/>
                </a:cubicBezTo>
                <a:cubicBezTo>
                  <a:pt x="477" y="141"/>
                  <a:pt x="476" y="118"/>
                  <a:pt x="436" y="108"/>
                </a:cubicBezTo>
                <a:cubicBezTo>
                  <a:pt x="421" y="45"/>
                  <a:pt x="423" y="44"/>
                  <a:pt x="359" y="31"/>
                </a:cubicBezTo>
                <a:cubicBezTo>
                  <a:pt x="338" y="38"/>
                  <a:pt x="334" y="49"/>
                  <a:pt x="312" y="42"/>
                </a:cubicBezTo>
                <a:cubicBezTo>
                  <a:pt x="296" y="25"/>
                  <a:pt x="278" y="9"/>
                  <a:pt x="256" y="0"/>
                </a:cubicBezTo>
                <a:cubicBezTo>
                  <a:pt x="241" y="3"/>
                  <a:pt x="223" y="2"/>
                  <a:pt x="210" y="11"/>
                </a:cubicBezTo>
                <a:cubicBezTo>
                  <a:pt x="200" y="18"/>
                  <a:pt x="184" y="36"/>
                  <a:pt x="184" y="36"/>
                </a:cubicBezTo>
                <a:cubicBezTo>
                  <a:pt x="179" y="31"/>
                  <a:pt x="175" y="24"/>
                  <a:pt x="169" y="21"/>
                </a:cubicBezTo>
                <a:cubicBezTo>
                  <a:pt x="159" y="16"/>
                  <a:pt x="138" y="11"/>
                  <a:pt x="138" y="11"/>
                </a:cubicBezTo>
                <a:cubicBezTo>
                  <a:pt x="116" y="18"/>
                  <a:pt x="111" y="27"/>
                  <a:pt x="97" y="47"/>
                </a:cubicBezTo>
                <a:cubicBezTo>
                  <a:pt x="85" y="82"/>
                  <a:pt x="84" y="67"/>
                  <a:pt x="92" y="93"/>
                </a:cubicBezTo>
                <a:cubicBezTo>
                  <a:pt x="67" y="110"/>
                  <a:pt x="49" y="118"/>
                  <a:pt x="25" y="139"/>
                </a:cubicBezTo>
                <a:cubicBezTo>
                  <a:pt x="14" y="172"/>
                  <a:pt x="10" y="186"/>
                  <a:pt x="46" y="195"/>
                </a:cubicBezTo>
                <a:cubicBezTo>
                  <a:pt x="41" y="213"/>
                  <a:pt x="35" y="211"/>
                  <a:pt x="46" y="211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43800" y="4191120"/>
            <a:ext cx="765000" cy="636480"/>
          </a:xfrm>
          <a:custGeom>
            <a:avLst/>
            <a:gdLst/>
            <a:ahLst/>
            <a:rect l="l" t="t" r="r" b="b"/>
            <a:pathLst>
              <a:path w="482" h="401">
                <a:moveTo>
                  <a:pt x="46" y="211"/>
                </a:moveTo>
                <a:cubicBezTo>
                  <a:pt x="27" y="220"/>
                  <a:pt x="14" y="227"/>
                  <a:pt x="0" y="242"/>
                </a:cubicBezTo>
                <a:cubicBezTo>
                  <a:pt x="2" y="257"/>
                  <a:pt x="0" y="273"/>
                  <a:pt x="5" y="288"/>
                </a:cubicBezTo>
                <a:cubicBezTo>
                  <a:pt x="20" y="334"/>
                  <a:pt x="61" y="340"/>
                  <a:pt x="102" y="344"/>
                </a:cubicBezTo>
                <a:cubicBezTo>
                  <a:pt x="117" y="376"/>
                  <a:pt x="106" y="360"/>
                  <a:pt x="138" y="390"/>
                </a:cubicBezTo>
                <a:cubicBezTo>
                  <a:pt x="149" y="401"/>
                  <a:pt x="184" y="401"/>
                  <a:pt x="184" y="401"/>
                </a:cubicBezTo>
                <a:cubicBezTo>
                  <a:pt x="198" y="399"/>
                  <a:pt x="212" y="398"/>
                  <a:pt x="225" y="395"/>
                </a:cubicBezTo>
                <a:cubicBezTo>
                  <a:pt x="236" y="393"/>
                  <a:pt x="256" y="385"/>
                  <a:pt x="256" y="385"/>
                </a:cubicBezTo>
                <a:cubicBezTo>
                  <a:pt x="272" y="369"/>
                  <a:pt x="285" y="357"/>
                  <a:pt x="297" y="339"/>
                </a:cubicBezTo>
                <a:cubicBezTo>
                  <a:pt x="323" y="356"/>
                  <a:pt x="306" y="347"/>
                  <a:pt x="348" y="360"/>
                </a:cubicBezTo>
                <a:cubicBezTo>
                  <a:pt x="358" y="363"/>
                  <a:pt x="379" y="370"/>
                  <a:pt x="379" y="370"/>
                </a:cubicBezTo>
                <a:cubicBezTo>
                  <a:pt x="397" y="361"/>
                  <a:pt x="407" y="350"/>
                  <a:pt x="425" y="344"/>
                </a:cubicBezTo>
                <a:cubicBezTo>
                  <a:pt x="454" y="318"/>
                  <a:pt x="464" y="295"/>
                  <a:pt x="471" y="257"/>
                </a:cubicBezTo>
                <a:cubicBezTo>
                  <a:pt x="469" y="252"/>
                  <a:pt x="470" y="246"/>
                  <a:pt x="466" y="242"/>
                </a:cubicBezTo>
                <a:cubicBezTo>
                  <a:pt x="462" y="238"/>
                  <a:pt x="451" y="241"/>
                  <a:pt x="451" y="236"/>
                </a:cubicBezTo>
                <a:cubicBezTo>
                  <a:pt x="451" y="228"/>
                  <a:pt x="462" y="223"/>
                  <a:pt x="466" y="216"/>
                </a:cubicBezTo>
                <a:cubicBezTo>
                  <a:pt x="476" y="200"/>
                  <a:pt x="477" y="196"/>
                  <a:pt x="482" y="180"/>
                </a:cubicBezTo>
                <a:cubicBezTo>
                  <a:pt x="477" y="141"/>
                  <a:pt x="476" y="118"/>
                  <a:pt x="436" y="108"/>
                </a:cubicBezTo>
                <a:cubicBezTo>
                  <a:pt x="421" y="45"/>
                  <a:pt x="423" y="44"/>
                  <a:pt x="359" y="31"/>
                </a:cubicBezTo>
                <a:cubicBezTo>
                  <a:pt x="338" y="38"/>
                  <a:pt x="334" y="49"/>
                  <a:pt x="312" y="42"/>
                </a:cubicBezTo>
                <a:cubicBezTo>
                  <a:pt x="296" y="25"/>
                  <a:pt x="278" y="9"/>
                  <a:pt x="256" y="0"/>
                </a:cubicBezTo>
                <a:cubicBezTo>
                  <a:pt x="241" y="3"/>
                  <a:pt x="223" y="2"/>
                  <a:pt x="210" y="11"/>
                </a:cubicBezTo>
                <a:cubicBezTo>
                  <a:pt x="200" y="18"/>
                  <a:pt x="184" y="36"/>
                  <a:pt x="184" y="36"/>
                </a:cubicBezTo>
                <a:cubicBezTo>
                  <a:pt x="179" y="31"/>
                  <a:pt x="175" y="24"/>
                  <a:pt x="169" y="21"/>
                </a:cubicBezTo>
                <a:cubicBezTo>
                  <a:pt x="159" y="16"/>
                  <a:pt x="138" y="11"/>
                  <a:pt x="138" y="11"/>
                </a:cubicBezTo>
                <a:cubicBezTo>
                  <a:pt x="116" y="18"/>
                  <a:pt x="111" y="27"/>
                  <a:pt x="97" y="47"/>
                </a:cubicBezTo>
                <a:cubicBezTo>
                  <a:pt x="85" y="82"/>
                  <a:pt x="84" y="67"/>
                  <a:pt x="92" y="93"/>
                </a:cubicBezTo>
                <a:cubicBezTo>
                  <a:pt x="67" y="110"/>
                  <a:pt x="49" y="118"/>
                  <a:pt x="25" y="139"/>
                </a:cubicBezTo>
                <a:cubicBezTo>
                  <a:pt x="14" y="172"/>
                  <a:pt x="10" y="186"/>
                  <a:pt x="46" y="195"/>
                </a:cubicBezTo>
                <a:cubicBezTo>
                  <a:pt x="41" y="213"/>
                  <a:pt x="35" y="211"/>
                  <a:pt x="46" y="211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85680" y="1238400"/>
            <a:ext cx="7612200" cy="1199880"/>
          </a:xfrm>
          <a:custGeom>
            <a:avLst/>
            <a:gdLst/>
            <a:ahLst/>
            <a:rect l="l" t="t" r="r" b="b"/>
            <a:pathLst>
              <a:path w="4795" h="659">
                <a:moveTo>
                  <a:pt x="0" y="15"/>
                </a:moveTo>
                <a:cubicBezTo>
                  <a:pt x="21" y="47"/>
                  <a:pt x="0" y="97"/>
                  <a:pt x="46" y="148"/>
                </a:cubicBezTo>
                <a:cubicBezTo>
                  <a:pt x="61" y="184"/>
                  <a:pt x="80" y="211"/>
                  <a:pt x="102" y="225"/>
                </a:cubicBezTo>
                <a:cubicBezTo>
                  <a:pt x="135" y="246"/>
                  <a:pt x="181" y="273"/>
                  <a:pt x="215" y="292"/>
                </a:cubicBezTo>
                <a:cubicBezTo>
                  <a:pt x="314" y="348"/>
                  <a:pt x="408" y="405"/>
                  <a:pt x="517" y="435"/>
                </a:cubicBezTo>
                <a:cubicBezTo>
                  <a:pt x="859" y="530"/>
                  <a:pt x="963" y="520"/>
                  <a:pt x="1318" y="533"/>
                </a:cubicBezTo>
                <a:cubicBezTo>
                  <a:pt x="1410" y="531"/>
                  <a:pt x="1718" y="502"/>
                  <a:pt x="1810" y="497"/>
                </a:cubicBezTo>
                <a:cubicBezTo>
                  <a:pt x="1816" y="497"/>
                  <a:pt x="1959" y="438"/>
                  <a:pt x="1964" y="435"/>
                </a:cubicBezTo>
                <a:cubicBezTo>
                  <a:pt x="2010" y="444"/>
                  <a:pt x="2043" y="535"/>
                  <a:pt x="2200" y="564"/>
                </a:cubicBezTo>
                <a:cubicBezTo>
                  <a:pt x="2432" y="605"/>
                  <a:pt x="2672" y="604"/>
                  <a:pt x="2907" y="610"/>
                </a:cubicBezTo>
                <a:cubicBezTo>
                  <a:pt x="3191" y="606"/>
                  <a:pt x="3484" y="659"/>
                  <a:pt x="3759" y="589"/>
                </a:cubicBezTo>
                <a:cubicBezTo>
                  <a:pt x="3827" y="572"/>
                  <a:pt x="3891" y="446"/>
                  <a:pt x="3938" y="430"/>
                </a:cubicBezTo>
                <a:cubicBezTo>
                  <a:pt x="3982" y="415"/>
                  <a:pt x="4031" y="423"/>
                  <a:pt x="4077" y="420"/>
                </a:cubicBezTo>
                <a:cubicBezTo>
                  <a:pt x="4176" y="413"/>
                  <a:pt x="4275" y="406"/>
                  <a:pt x="4374" y="400"/>
                </a:cubicBezTo>
                <a:cubicBezTo>
                  <a:pt x="4414" y="392"/>
                  <a:pt x="4449" y="381"/>
                  <a:pt x="4482" y="353"/>
                </a:cubicBezTo>
                <a:cubicBezTo>
                  <a:pt x="4502" y="336"/>
                  <a:pt x="4518" y="311"/>
                  <a:pt x="4543" y="302"/>
                </a:cubicBezTo>
                <a:cubicBezTo>
                  <a:pt x="4567" y="293"/>
                  <a:pt x="4591" y="285"/>
                  <a:pt x="4615" y="276"/>
                </a:cubicBezTo>
                <a:cubicBezTo>
                  <a:pt x="4661" y="239"/>
                  <a:pt x="4637" y="260"/>
                  <a:pt x="4687" y="210"/>
                </a:cubicBezTo>
                <a:cubicBezTo>
                  <a:pt x="4701" y="196"/>
                  <a:pt x="4728" y="169"/>
                  <a:pt x="4728" y="169"/>
                </a:cubicBezTo>
                <a:cubicBezTo>
                  <a:pt x="4750" y="124"/>
                  <a:pt x="4778" y="52"/>
                  <a:pt x="4795" y="5"/>
                </a:cubicBezTo>
                <a:cubicBezTo>
                  <a:pt x="4712" y="0"/>
                  <a:pt x="4713" y="5"/>
                  <a:pt x="4584" y="5"/>
                </a:cubicBezTo>
                <a:cubicBezTo>
                  <a:pt x="4364" y="5"/>
                  <a:pt x="4261" y="5"/>
                  <a:pt x="4056" y="5"/>
                </a:cubicBezTo>
                <a:cubicBezTo>
                  <a:pt x="3482" y="5"/>
                  <a:pt x="2964" y="5"/>
                  <a:pt x="2466" y="5"/>
                </a:cubicBezTo>
                <a:cubicBezTo>
                  <a:pt x="2194" y="5"/>
                  <a:pt x="2112" y="5"/>
                  <a:pt x="1902" y="5"/>
                </a:cubicBezTo>
                <a:cubicBezTo>
                  <a:pt x="1723" y="5"/>
                  <a:pt x="1758" y="0"/>
                  <a:pt x="1594" y="5"/>
                </a:cubicBezTo>
                <a:cubicBezTo>
                  <a:pt x="1102" y="10"/>
                  <a:pt x="1533" y="5"/>
                  <a:pt x="1071" y="5"/>
                </a:cubicBezTo>
                <a:cubicBezTo>
                  <a:pt x="895" y="3"/>
                  <a:pt x="796" y="13"/>
                  <a:pt x="620" y="10"/>
                </a:cubicBezTo>
                <a:cubicBezTo>
                  <a:pt x="559" y="9"/>
                  <a:pt x="426" y="10"/>
                  <a:pt x="328" y="10"/>
                </a:cubicBezTo>
                <a:cubicBezTo>
                  <a:pt x="236" y="15"/>
                  <a:pt x="179" y="0"/>
                  <a:pt x="128" y="10"/>
                </a:cubicBezTo>
                <a:cubicBezTo>
                  <a:pt x="84" y="16"/>
                  <a:pt x="24" y="15"/>
                  <a:pt x="0" y="15"/>
                </a:cubicBez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09680" y="1981080"/>
            <a:ext cx="30492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2209680"/>
            <a:ext cx="30492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362320" y="2286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638680" y="25142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362320" y="1828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904760" y="1676520"/>
            <a:ext cx="5181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638680" y="1828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33720" y="1447920"/>
            <a:ext cx="380880" cy="3808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1447920"/>
            <a:ext cx="380880" cy="3808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9880" y="1447920"/>
            <a:ext cx="381240" cy="3808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1447920"/>
            <a:ext cx="380880" cy="3808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10080" y="1447920"/>
            <a:ext cx="381240" cy="3808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48520" y="1447920"/>
            <a:ext cx="380880" cy="3808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5105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4952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4419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00800" y="5029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10280" y="44197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73080" y="301860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SP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73640" y="29710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SP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240680" y="129492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ck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0" y="5562720"/>
            <a:ext cx="15228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8120" y="5562720"/>
            <a:ext cx="15228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4343400"/>
            <a:ext cx="15228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62720" y="5638680"/>
            <a:ext cx="152280" cy="1526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24480" y="5562720"/>
            <a:ext cx="15264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43800" y="4343400"/>
            <a:ext cx="152280" cy="1522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3560" y="486144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any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19200" y="609480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any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33840" y="609480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any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67200" y="617112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any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38920" y="617112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any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1160" y="479952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any 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IP Priority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work with IPv4 and IPv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Pv4 has Type of Service (TOS) by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Pv6 has Class by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gg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fine usage of the 8 bi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licit congestion notification (1 or 2 bit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rious priority encoding schemes (1 - 3 bit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ave some bits for future usag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79f"/>
                </a:solidFill>
                <a:latin typeface="Times New Roman"/>
              </a:rPr>
              <a:t>Issues</a:t>
            </a:r>
            <a:endParaRPr b="1" i="1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ffic 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y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pe of service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08T02:57:00Z</dcterms:created>
  <dc:creator>Gordon Chaffee</dc:creator>
  <dc:description/>
  <dc:language>en-US</dc:language>
  <cp:lastModifiedBy>Gordon Chaffee</cp:lastModifiedBy>
  <cp:lastPrinted>1997-03-11T10:59:34Z</cp:lastPrinted>
  <dcterms:modified xsi:type="dcterms:W3CDTF">1998-03-18T23:03:32Z</dcterms:modified>
  <cp:revision>75</cp:revision>
  <dc:subject/>
  <dc:title>End-to-End CM Delivery Research</dc:title>
</cp:coreProperties>
</file>