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2360" y="692280"/>
            <a:ext cx="455472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 with Unicast and Multicast network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Guarantees: Ordering, etc</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3805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85C2-EB02-4ADD-A22A-3F78EFB30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880" y="6448320"/>
            <a:ext cx="1513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tworking Overview</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Networking Overview</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 Usage</a:t>
            </a:r>
            <a:endParaRPr b="1" i="1" lang="en-US" sz="44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matic increase in u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arch: telecollaboration, protocol developmen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arning: conferences, seminars, and cla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tertainment: Rolling Stones concer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s to much higher bandwidth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oups range from &lt; 10 to 1000’s, will grow to mill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umber of programs/groups -- thousands of cha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rnet Video</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bandwidth and qu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me rate, image size, del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y bandwidth and quality depending on receiver deman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ery large groups can use more/less bandwidth depending on network capabilities and economic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mall groups on a campus can use very high qua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less viewers use low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viewers get different qualities for one program (wireless vs wired compu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deo Transmissions</a:t>
            </a:r>
            <a:endParaRPr b="1" i="1" lang="en-US" sz="4400" spc="-1" strike="noStrike">
              <a:solidFill>
                <a:srgbClr val="00279f"/>
              </a:solidFill>
              <a:latin typeface="Times New Roman"/>
            </a:endParaRPr>
          </a:p>
        </p:txBody>
      </p:sp>
      <p:sp>
        <p:nvSpPr>
          <p:cNvPr id="177" name=""/>
          <p:cNvSpPr/>
          <p:nvPr/>
        </p:nvSpPr>
        <p:spPr>
          <a:xfrm>
            <a:off x="762120" y="1905120"/>
            <a:ext cx="72388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09480" y="1981080"/>
            <a:ext cx="8001000" cy="335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u="sng">
                <a:solidFill>
                  <a:srgbClr val="0000ff"/>
                </a:solidFill>
                <a:uFillTx/>
                <a:latin typeface="Times New Roman"/>
              </a:rPr>
              <a:t>	</a:t>
            </a:r>
            <a:r>
              <a:rPr b="0" lang="en-US" sz="3200" spc="-1" strike="noStrike">
                <a:solidFill>
                  <a:srgbClr val="00ae00"/>
                </a:solidFill>
                <a:latin typeface="Times New Roman"/>
              </a:rPr>
              <a:t>Traditional</a:t>
            </a:r>
            <a:r>
              <a:rPr b="0" lang="en-US" sz="3200" spc="-1" strike="noStrike">
                <a:solidFill>
                  <a:srgbClr val="0000ff"/>
                </a:solidFill>
                <a:latin typeface="Times New Roman"/>
              </a:rPr>
              <a:t>	</a:t>
            </a:r>
            <a:r>
              <a:rPr b="0" lang="en-US" sz="3200" spc="-1" strike="noStrike">
                <a:solidFill>
                  <a:srgbClr val="0000ff"/>
                </a:solidFill>
                <a:latin typeface="Times New Roman"/>
              </a:rPr>
              <a:t>	</a:t>
            </a:r>
            <a:r>
              <a:rPr b="0" lang="en-US" sz="3200" spc="-1" strike="noStrike">
                <a:solidFill>
                  <a:srgbClr val="00ae00"/>
                </a:solidFill>
                <a:latin typeface="Times New Roman"/>
              </a:rPr>
              <a:t>Internet</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rame rat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mage siz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ela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xed, bounded</a:t>
            </a:r>
            <a:r>
              <a:rPr b="0" lang="en-US" sz="2800" spc="-1" strike="noStrike">
                <a:solidFill>
                  <a:srgbClr val="000000"/>
                </a:solidFill>
                <a:latin typeface="Times New Roman"/>
              </a:rPr>
              <a:t>	</a:t>
            </a:r>
            <a:r>
              <a:rPr b="0" lang="en-US" sz="2800" spc="-1" strike="noStrike">
                <a:solidFill>
                  <a:srgbClr val="000000"/>
                </a:solidFill>
                <a:latin typeface="Times New Roman"/>
              </a:rPr>
              <a:t>Variabl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ransmissions</a:t>
            </a:r>
            <a:r>
              <a:rPr b="0" lang="en-US" sz="2800" spc="-1" strike="noStrike">
                <a:solidFill>
                  <a:srgbClr val="000000"/>
                </a:solidFill>
                <a:latin typeface="Times New Roman"/>
              </a:rPr>
              <a:t>	</a:t>
            </a:r>
            <a:r>
              <a:rPr b="0" lang="en-US" sz="2800" spc="-1" strike="noStrike">
                <a:solidFill>
                  <a:srgbClr val="000000"/>
                </a:solidFill>
                <a:latin typeface="Times New Roman"/>
              </a:rPr>
              <a:t>Analog</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igital packe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g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oisy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ost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609480" y="1981080"/>
            <a:ext cx="8001000" cy="3276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609480" y="46483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4114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35812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3048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004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94360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9480" y="25146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1981080"/>
            <a:ext cx="0" cy="327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480" y="246204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nternet Video</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video streams share network lin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limit total bandwidth consumed by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e bandwidth by receiver intere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UBA (Scalable ConsensUs Based Allocation) does this per sess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similar mechanism for global al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s adapt to signal based on available bandwid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LM Example</a:t>
            </a:r>
            <a:endParaRPr b="1" i="1" lang="en-US" sz="4400" spc="-1" strike="noStrike">
              <a:solidFill>
                <a:srgbClr val="00279f"/>
              </a:solidFill>
              <a:latin typeface="Times New Roman"/>
            </a:endParaRPr>
          </a:p>
        </p:txBody>
      </p:sp>
      <p:grpSp>
        <p:nvGrpSpPr>
          <p:cNvPr id="192" name=""/>
          <p:cNvGrpSpPr/>
          <p:nvPr/>
        </p:nvGrpSpPr>
        <p:grpSpPr>
          <a:xfrm>
            <a:off x="5943600" y="3276720"/>
            <a:ext cx="493560" cy="490320"/>
            <a:chOff x="5943600" y="3276720"/>
            <a:chExt cx="493560" cy="490320"/>
          </a:xfrm>
        </p:grpSpPr>
        <p:sp>
          <p:nvSpPr>
            <p:cNvPr id="193" name=""/>
            <p:cNvSpPr/>
            <p:nvPr/>
          </p:nvSpPr>
          <p:spPr>
            <a:xfrm>
              <a:off x="6067080" y="330876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943600" y="365256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 name=""/>
            <p:cNvSpPr/>
            <p:nvPr/>
          </p:nvSpPr>
          <p:spPr>
            <a:xfrm flipH="1">
              <a:off x="6067080" y="36525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1279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00480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287760" y="36525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618984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313320" y="36525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98680" y="369072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986080" y="37335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32160" y="327672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 name=""/>
          <p:cNvSpPr/>
          <p:nvPr/>
        </p:nvSpPr>
        <p:spPr>
          <a:xfrm>
            <a:off x="3352680" y="26668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05" name=""/>
          <p:cNvGrpSpPr/>
          <p:nvPr/>
        </p:nvGrpSpPr>
        <p:grpSpPr>
          <a:xfrm>
            <a:off x="1981080" y="2743200"/>
            <a:ext cx="457200" cy="456840"/>
            <a:chOff x="1981080" y="2743200"/>
            <a:chExt cx="457200" cy="456840"/>
          </a:xfrm>
        </p:grpSpPr>
        <p:sp>
          <p:nvSpPr>
            <p:cNvPr id="206" name=""/>
            <p:cNvSpPr/>
            <p:nvPr/>
          </p:nvSpPr>
          <p:spPr>
            <a:xfrm>
              <a:off x="2095200" y="27730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198108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 name=""/>
            <p:cNvSpPr/>
            <p:nvPr/>
          </p:nvSpPr>
          <p:spPr>
            <a:xfrm flipH="1">
              <a:off x="20952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1524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03796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0004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22096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23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3220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2032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63160" y="27432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7" name=""/>
          <p:cNvSpPr/>
          <p:nvPr/>
        </p:nvSpPr>
        <p:spPr>
          <a:xfrm>
            <a:off x="464832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18" name=""/>
          <p:cNvGrpSpPr/>
          <p:nvPr/>
        </p:nvGrpSpPr>
        <p:grpSpPr>
          <a:xfrm>
            <a:off x="4724280" y="1828800"/>
            <a:ext cx="493920" cy="490680"/>
            <a:chOff x="4724280" y="1828800"/>
            <a:chExt cx="493920" cy="490680"/>
          </a:xfrm>
        </p:grpSpPr>
        <p:sp>
          <p:nvSpPr>
            <p:cNvPr id="219" name=""/>
            <p:cNvSpPr/>
            <p:nvPr/>
          </p:nvSpPr>
          <p:spPr>
            <a:xfrm>
              <a:off x="4847760" y="18608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4724280" y="22050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flipH="1">
              <a:off x="4847760" y="22050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9089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47854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68800" y="22050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497088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94360" y="22050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79360" y="22431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766760" y="22860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813200" y="18288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0" name=""/>
          <p:cNvGrpSpPr/>
          <p:nvPr/>
        </p:nvGrpSpPr>
        <p:grpSpPr>
          <a:xfrm>
            <a:off x="4648320" y="4572000"/>
            <a:ext cx="493560" cy="490680"/>
            <a:chOff x="4648320" y="4572000"/>
            <a:chExt cx="493560" cy="490680"/>
          </a:xfrm>
        </p:grpSpPr>
        <p:sp>
          <p:nvSpPr>
            <p:cNvPr id="231" name=""/>
            <p:cNvSpPr/>
            <p:nvPr/>
          </p:nvSpPr>
          <p:spPr>
            <a:xfrm>
              <a:off x="4771800" y="46040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4648320" y="49482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3" name=""/>
            <p:cNvSpPr/>
            <p:nvPr/>
          </p:nvSpPr>
          <p:spPr>
            <a:xfrm flipH="1">
              <a:off x="4771800" y="49482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48326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470952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92480" y="49482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489456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18040" y="49482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03400" y="49863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90800" y="50292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36880" y="45720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2" name=""/>
          <p:cNvSpPr/>
          <p:nvPr/>
        </p:nvSpPr>
        <p:spPr>
          <a:xfrm>
            <a:off x="2514600" y="304812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3" name=""/>
          <p:cNvSpPr/>
          <p:nvPr/>
        </p:nvSpPr>
        <p:spPr>
          <a:xfrm>
            <a:off x="2514600" y="289548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4" name=""/>
          <p:cNvSpPr/>
          <p:nvPr/>
        </p:nvSpPr>
        <p:spPr>
          <a:xfrm>
            <a:off x="2514600" y="2743200"/>
            <a:ext cx="76212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5" name=""/>
          <p:cNvSpPr/>
          <p:nvPr/>
        </p:nvSpPr>
        <p:spPr>
          <a:xfrm>
            <a:off x="2513520" y="243792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46" name=""/>
          <p:cNvSpPr/>
          <p:nvPr/>
        </p:nvSpPr>
        <p:spPr>
          <a:xfrm flipV="1">
            <a:off x="3962520" y="2209680"/>
            <a:ext cx="761760" cy="4572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7" name=""/>
          <p:cNvSpPr/>
          <p:nvPr/>
        </p:nvSpPr>
        <p:spPr>
          <a:xfrm flipV="1">
            <a:off x="3886200" y="2133720"/>
            <a:ext cx="762120" cy="45720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8" name=""/>
          <p:cNvSpPr/>
          <p:nvPr/>
        </p:nvSpPr>
        <p:spPr>
          <a:xfrm flipV="1">
            <a:off x="3809880" y="2057400"/>
            <a:ext cx="762120" cy="45720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49" name=""/>
          <p:cNvSpPr/>
          <p:nvPr/>
        </p:nvSpPr>
        <p:spPr>
          <a:xfrm>
            <a:off x="5181480" y="3657600"/>
            <a:ext cx="76212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0" name=""/>
          <p:cNvSpPr/>
          <p:nvPr/>
        </p:nvSpPr>
        <p:spPr>
          <a:xfrm>
            <a:off x="5181480" y="3505320"/>
            <a:ext cx="76212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1" name=""/>
          <p:cNvSpPr/>
          <p:nvPr/>
        </p:nvSpPr>
        <p:spPr>
          <a:xfrm>
            <a:off x="5256720" y="304776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2" name=""/>
          <p:cNvSpPr/>
          <p:nvPr/>
        </p:nvSpPr>
        <p:spPr>
          <a:xfrm>
            <a:off x="4950360" y="403812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8 Kb/s</a:t>
            </a:r>
            <a:endParaRPr b="0" lang="en-US" sz="1400" spc="-1" strike="noStrike">
              <a:solidFill>
                <a:srgbClr val="000000"/>
              </a:solidFill>
              <a:latin typeface="Times New Roman"/>
            </a:endParaRPr>
          </a:p>
        </p:txBody>
      </p:sp>
      <p:sp>
        <p:nvSpPr>
          <p:cNvPr id="253" name=""/>
          <p:cNvSpPr/>
          <p:nvPr/>
        </p:nvSpPr>
        <p:spPr>
          <a:xfrm>
            <a:off x="3502800" y="3504960"/>
            <a:ext cx="76428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2 Kb/s</a:t>
            </a:r>
            <a:endParaRPr b="0" lang="en-US" sz="1400" spc="-1" strike="noStrike">
              <a:solidFill>
                <a:srgbClr val="000000"/>
              </a:solidFill>
              <a:latin typeface="Times New Roman"/>
            </a:endParaRPr>
          </a:p>
        </p:txBody>
      </p:sp>
      <p:sp>
        <p:nvSpPr>
          <p:cNvPr id="254" name=""/>
          <p:cNvSpPr/>
          <p:nvPr/>
        </p:nvSpPr>
        <p:spPr>
          <a:xfrm>
            <a:off x="3886200" y="3276720"/>
            <a:ext cx="685800" cy="3808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5" name=""/>
          <p:cNvSpPr/>
          <p:nvPr/>
        </p:nvSpPr>
        <p:spPr>
          <a:xfrm>
            <a:off x="3886200" y="3124080"/>
            <a:ext cx="685800" cy="3812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6" name=""/>
          <p:cNvSpPr/>
          <p:nvPr/>
        </p:nvSpPr>
        <p:spPr>
          <a:xfrm>
            <a:off x="4876920" y="3809880"/>
            <a:ext cx="0" cy="68580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257" name=""/>
          <p:cNvSpPr/>
          <p:nvPr/>
        </p:nvSpPr>
        <p:spPr>
          <a:xfrm>
            <a:off x="3580200" y="2057040"/>
            <a:ext cx="613440" cy="2134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endParaRPr b="0" lang="en-US" sz="1400" spc="-1" strike="noStrike">
              <a:solidFill>
                <a:srgbClr val="000000"/>
              </a:solidFill>
              <a:latin typeface="Times New Roman"/>
            </a:endParaRPr>
          </a:p>
        </p:txBody>
      </p:sp>
      <p:sp>
        <p:nvSpPr>
          <p:cNvPr id="258" name=""/>
          <p:cNvSpPr/>
          <p:nvPr/>
        </p:nvSpPr>
        <p:spPr>
          <a:xfrm>
            <a:off x="1940040" y="3262320"/>
            <a:ext cx="54936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9" name=""/>
          <p:cNvSpPr/>
          <p:nvPr/>
        </p:nvSpPr>
        <p:spPr>
          <a:xfrm>
            <a:off x="4497120" y="50911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
        <p:nvSpPr>
          <p:cNvPr id="260" name=""/>
          <p:cNvSpPr/>
          <p:nvPr/>
        </p:nvSpPr>
        <p:spPr>
          <a:xfrm>
            <a:off x="5792400" y="379584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sp>
        <p:nvSpPr>
          <p:cNvPr id="261" name=""/>
          <p:cNvSpPr/>
          <p:nvPr/>
        </p:nvSpPr>
        <p:spPr>
          <a:xfrm>
            <a:off x="4574880" y="2362320"/>
            <a:ext cx="770400" cy="18288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P Concerns</a:t>
            </a:r>
            <a:endParaRPr b="1" i="1" lang="en-US" sz="4400" spc="-1" strike="noStrike">
              <a:solidFill>
                <a:srgbClr val="00279f"/>
              </a:solidFill>
              <a:latin typeface="Times New Roman"/>
            </a:endParaRPr>
          </a:p>
        </p:txBody>
      </p:sp>
      <p:sp>
        <p:nvSpPr>
          <p:cNvPr id="2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causes high network utiliz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 source can produce high total network lo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erimental multicast applications are relatively high bandwidth: audio and vide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w control non-existent in many multicast ap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pricing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ly, both sender and receiver pay for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llows sender to buy less bandwidth while reaching same number of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on ISP network not proportional to source data r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conomics of Multicast</a:t>
            </a:r>
            <a:endParaRPr b="1" i="1" lang="en-US" sz="4400" spc="-1" strike="noStrike">
              <a:solidFill>
                <a:srgbClr val="00279f"/>
              </a:solidFill>
              <a:latin typeface="Times New Roman"/>
            </a:endParaRPr>
          </a:p>
        </p:txBody>
      </p:sp>
      <p:sp>
        <p:nvSpPr>
          <p:cNvPr id="2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acket sent to multiple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Benefits by reducing network load compared to unicast</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Lower cost of network connectiv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service provid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i="1" lang="en-US" sz="2400" spc="-1" strike="noStrike">
                <a:solidFill>
                  <a:srgbClr val="000000"/>
                </a:solidFill>
                <a:latin typeface="Times New Roman"/>
              </a:rPr>
              <a:t>One packet sent can cause load greater than unicast packet load</a:t>
            </a:r>
            <a:endParaRPr b="0" i="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Reduces overall traffic that flows over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0" i="1" lang="en-US" sz="2400" spc="-1" strike="noStrike">
                <a:solidFill>
                  <a:srgbClr val="000000"/>
                </a:solidFill>
                <a:latin typeface="Times New Roman"/>
              </a:rPr>
              <a:t> Same number of packets received as un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imm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ols are poor, difficult to us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protocols leave many issues unresolv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development has focused on academic problems, not business conc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id not address poli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IM, DVMRP, CBT do not address ISP policy concer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MP addresses some ISP concerns, but it is still under developme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urrent ISP Multicast Solution</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trict senders of multicast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ge senders to distribute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greem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forward multicast traf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ISP’s offer multicast service to customers (e.g. UUNET UU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 beginning to discuss peer agreement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Service Model</a:t>
            </a:r>
            <a:endParaRPr b="1" i="1" lang="en-US" sz="4400" spc="-1" strike="noStrike">
              <a:solidFill>
                <a:srgbClr val="00279f"/>
              </a:solidFill>
              <a:latin typeface="Times New Roman"/>
            </a:endParaRPr>
          </a:p>
        </p:txBody>
      </p:sp>
      <p:sp>
        <p:nvSpPr>
          <p:cNvPr id="2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Multicast is an unreliable delivery serv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abl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Networking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of Talk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liable Multicast</a:t>
            </a:r>
            <a:endParaRPr b="1" i="1" lang="en-US" sz="4400" spc="-1" strike="noStrike">
              <a:solidFill>
                <a:srgbClr val="00279f"/>
              </a:solidFill>
              <a:latin typeface="Times New Roman"/>
            </a:endParaRPr>
          </a:p>
        </p:txBody>
      </p:sp>
      <p:sp>
        <p:nvSpPr>
          <p:cNvPr id="2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pplications need the same data to be delivered reliably to many receiver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ributed collaboration tools (e.g. shared whiteboard)</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ock history</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ftware distribution</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y different proposal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posals solve some problems but have not considered commercial limitations of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 exploring applications for reliable multicas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al-Time Transport Protocol (RTP)</a:t>
            </a:r>
            <a:endParaRPr b="1" i="1" lang="en-US" sz="4400" spc="-1" strike="noStrike">
              <a:solidFill>
                <a:srgbClr val="00279f"/>
              </a:solidFill>
              <a:latin typeface="Times New Roman"/>
            </a:endParaRPr>
          </a:p>
        </p:txBody>
      </p:sp>
      <p:sp>
        <p:nvSpPr>
          <p:cNvPr id="27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 protocol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ily used for audio and video</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imple, common services for real-time data</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tional services provided by profile and payload form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elivery or quality of service guarant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ure protocol being used by some commercial application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Directions</a:t>
            </a:r>
            <a:endParaRPr b="1" i="1" lang="en-US" sz="4400" spc="-1" strike="noStrike">
              <a:solidFill>
                <a:srgbClr val="00279f"/>
              </a:solidFill>
              <a:latin typeface="Times New Roman"/>
            </a:endParaRPr>
          </a:p>
        </p:txBody>
      </p:sp>
      <p:sp>
        <p:nvSpPr>
          <p:cNvPr id="27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aches to improve applications and networks for distributed multimedi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pplications more adapt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protocol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algorithms more resilient to lo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 and flex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aptive Applications</a:t>
            </a:r>
            <a:endParaRPr b="1" i="1" lang="en-US" sz="4400" spc="-1" strike="noStrike">
              <a:solidFill>
                <a:srgbClr val="00279f"/>
              </a:solidFill>
              <a:latin typeface="Times New Roman"/>
            </a:endParaRPr>
          </a:p>
        </p:txBody>
      </p:sp>
      <p:sp>
        <p:nvSpPr>
          <p:cNvPr id="27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handling of lost and lat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t data should lead to loss of fidelity but not usefulness (i.e. degraded audio qu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decrease bandwidth usage in response to changing network condi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Protocols</a:t>
            </a:r>
            <a:endParaRPr b="1" i="1" lang="en-US" sz="4400" spc="-1" strike="noStrike">
              <a:solidFill>
                <a:srgbClr val="00279f"/>
              </a:solidFill>
              <a:latin typeface="Times New Roman"/>
            </a:endParaRPr>
          </a:p>
        </p:txBody>
      </p:sp>
      <p:sp>
        <p:nvSpPr>
          <p:cNvPr id="2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dependencies between packe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data units can be operated on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of data pa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orward error correction (FEC) for data deli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ss Tolerant Algorithms</a:t>
            </a:r>
            <a:endParaRPr b="1" i="1" lang="en-US" sz="4400" spc="-1" strike="noStrike">
              <a:solidFill>
                <a:srgbClr val="00279f"/>
              </a:solidFill>
              <a:latin typeface="Times New Roman"/>
            </a:endParaRPr>
          </a:p>
        </p:txBody>
      </p:sp>
      <p:sp>
        <p:nvSpPr>
          <p:cNvPr id="2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ource encoding algorithms to generate network friendly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y existing algorith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a H.261 is a subset of H.261 without inter-frame dependenci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driven layered multicast (RLM)</a:t>
            </a: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uture of IP Networks </a:t>
            </a:r>
            <a:endParaRPr b="1" i="1" lang="en-US" sz="4400" spc="-1" strike="noStrike">
              <a:solidFill>
                <a:srgbClr val="00279f"/>
              </a:solidFill>
              <a:latin typeface="Times New Roman"/>
            </a:endParaRPr>
          </a:p>
        </p:txBody>
      </p:sp>
      <p:sp>
        <p:nvSpPr>
          <p:cNvPr id="28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IP networks treated as black bo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responsiv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 networks more predict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 users more control over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congestion notifi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grated Services, RSVP, Differentiated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grammable networks (Active Networks, application-specific gateway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Quality of Service Approaches</a:t>
            </a:r>
            <a:endParaRPr b="1" i="1" lang="en-US" sz="4400" spc="-1" strike="noStrike">
              <a:solidFill>
                <a:srgbClr val="00279f"/>
              </a:solidFill>
              <a:latin typeface="Times New Roman"/>
            </a:endParaRPr>
          </a:p>
        </p:txBody>
      </p:sp>
      <p:sp>
        <p:nvSpPr>
          <p:cNvPr id="287" name="PlaceHolder 2"/>
          <p:cNvSpPr>
            <a:spLocks noGrp="1"/>
          </p:cNvSpPr>
          <p:nvPr>
            <p:ph/>
          </p:nvPr>
        </p:nvSpPr>
        <p:spPr>
          <a:xfrm>
            <a:off x="685800" y="1295280"/>
            <a:ext cx="7772400" cy="3733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e resource alloc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arse resource allocations</a:t>
            </a:r>
            <a:endParaRPr b="0" i="1" lang="en-US" sz="2400" spc="-1" strike="noStrike">
              <a:solidFill>
                <a:srgbClr val="000000"/>
              </a:solidFill>
              <a:latin typeface="Times New Roman"/>
            </a:endParaRPr>
          </a:p>
        </p:txBody>
      </p:sp>
      <p:sp>
        <p:nvSpPr>
          <p:cNvPr id="288" name=""/>
          <p:cNvSpPr/>
          <p:nvPr/>
        </p:nvSpPr>
        <p:spPr>
          <a:xfrm>
            <a:off x="980640" y="4119840"/>
            <a:ext cx="7072200" cy="1008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question is to choose which packets shall be dropped.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efinition of differential service is something like "not min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hristian Huit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egrated Services</a:t>
            </a:r>
            <a:endParaRPr b="1" i="1" lang="en-US" sz="4400" spc="-1" strike="noStrike">
              <a:solidFill>
                <a:srgbClr val="00279f"/>
              </a:solidFill>
              <a:latin typeface="Times New Roman"/>
            </a:endParaRPr>
          </a:p>
        </p:txBody>
      </p:sp>
      <p:sp>
        <p:nvSpPr>
          <p:cNvPr id="2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 model for allocating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networks predictable and control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applications can request different deliver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RSVP reservatio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es to solve many hard 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admiss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pric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SeverVation Protocol (RSVP)</a:t>
            </a:r>
            <a:endParaRPr b="1" i="1" lang="en-US" sz="4400" spc="-1" strike="noStrike">
              <a:solidFill>
                <a:srgbClr val="00279f"/>
              </a:solidFill>
              <a:latin typeface="Times New Roman"/>
            </a:endParaRPr>
          </a:p>
        </p:txBody>
      </p:sp>
      <p:sp>
        <p:nvSpPr>
          <p:cNvPr id="2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ing protocol for Integrated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 grain control of network bandwid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solution, but requires support in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implement increment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icated sol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management does not scale to backb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s emerged as standard for data commun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was successful research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led to explosive growth of public and commercial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communication technology improvements enabled distributed multimedia applications (e.g. video collab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2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lightweight solution for resource allo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to operate on aggregated flow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uld scale to backbone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s with Integrated Services/RSV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Serv/RSVP tried to solve every resource allocation problem on an end-to-end bas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Serv only specifies per-hop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477120" y="4648320"/>
            <a:ext cx="198108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6" name=""/>
          <p:cNvSpPr/>
          <p:nvPr/>
        </p:nvSpPr>
        <p:spPr>
          <a:xfrm>
            <a:off x="3581280" y="4648320"/>
            <a:ext cx="200196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7" name=""/>
          <p:cNvSpPr/>
          <p:nvPr/>
        </p:nvSpPr>
        <p:spPr>
          <a:xfrm>
            <a:off x="35827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2</a:t>
            </a:r>
            <a:endParaRPr b="0" lang="en-US" sz="1800" spc="-1" strike="noStrike">
              <a:solidFill>
                <a:srgbClr val="000000"/>
              </a:solidFill>
              <a:latin typeface="Times New Roman"/>
            </a:endParaRPr>
          </a:p>
        </p:txBody>
      </p:sp>
      <p:sp>
        <p:nvSpPr>
          <p:cNvPr id="298" name=""/>
          <p:cNvSpPr/>
          <p:nvPr/>
        </p:nvSpPr>
        <p:spPr>
          <a:xfrm>
            <a:off x="647856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3</a:t>
            </a:r>
            <a:endParaRPr b="0" lang="en-US" sz="1800" spc="-1" strike="noStrike">
              <a:solidFill>
                <a:srgbClr val="000000"/>
              </a:solidFill>
              <a:latin typeface="Times New Roman"/>
            </a:endParaRPr>
          </a:p>
        </p:txBody>
      </p:sp>
      <p:sp>
        <p:nvSpPr>
          <p:cNvPr id="299" name=""/>
          <p:cNvSpPr/>
          <p:nvPr/>
        </p:nvSpPr>
        <p:spPr>
          <a:xfrm>
            <a:off x="838080" y="4648320"/>
            <a:ext cx="1981440" cy="1752480"/>
          </a:xfrm>
          <a:custGeom>
            <a:avLst/>
            <a:gdLst/>
            <a:ahLst/>
            <a:rect l="l" t="t" r="r" b="b"/>
            <a:pathLst>
              <a:path w="1549" h="1437">
                <a:moveTo>
                  <a:pt x="323" y="1093"/>
                </a:moveTo>
                <a:cubicBezTo>
                  <a:pt x="319" y="1130"/>
                  <a:pt x="314" y="1165"/>
                  <a:pt x="308" y="1201"/>
                </a:cubicBezTo>
                <a:cubicBezTo>
                  <a:pt x="323" y="1353"/>
                  <a:pt x="469" y="1424"/>
                  <a:pt x="605" y="1437"/>
                </a:cubicBezTo>
                <a:cubicBezTo>
                  <a:pt x="631" y="1435"/>
                  <a:pt x="657" y="1435"/>
                  <a:pt x="682" y="1431"/>
                </a:cubicBezTo>
                <a:cubicBezTo>
                  <a:pt x="763" y="1418"/>
                  <a:pt x="809" y="1346"/>
                  <a:pt x="856" y="1288"/>
                </a:cubicBezTo>
                <a:cubicBezTo>
                  <a:pt x="858" y="1283"/>
                  <a:pt x="861" y="1278"/>
                  <a:pt x="861" y="1272"/>
                </a:cubicBezTo>
                <a:cubicBezTo>
                  <a:pt x="861" y="1265"/>
                  <a:pt x="852" y="1258"/>
                  <a:pt x="856" y="1252"/>
                </a:cubicBezTo>
                <a:cubicBezTo>
                  <a:pt x="859" y="1248"/>
                  <a:pt x="863" y="1259"/>
                  <a:pt x="867" y="1262"/>
                </a:cubicBezTo>
                <a:cubicBezTo>
                  <a:pt x="880" y="1271"/>
                  <a:pt x="894" y="1279"/>
                  <a:pt x="908" y="1288"/>
                </a:cubicBezTo>
                <a:cubicBezTo>
                  <a:pt x="927" y="1300"/>
                  <a:pt x="963" y="1303"/>
                  <a:pt x="985" y="1308"/>
                </a:cubicBezTo>
                <a:cubicBezTo>
                  <a:pt x="1031" y="1306"/>
                  <a:pt x="1077" y="1307"/>
                  <a:pt x="1123" y="1303"/>
                </a:cubicBezTo>
                <a:cubicBezTo>
                  <a:pt x="1137" y="1302"/>
                  <a:pt x="1164" y="1293"/>
                  <a:pt x="1164" y="1293"/>
                </a:cubicBezTo>
                <a:cubicBezTo>
                  <a:pt x="1220" y="1261"/>
                  <a:pt x="1269" y="1233"/>
                  <a:pt x="1308" y="1180"/>
                </a:cubicBezTo>
                <a:cubicBezTo>
                  <a:pt x="1315" y="1160"/>
                  <a:pt x="1323" y="1140"/>
                  <a:pt x="1328" y="1119"/>
                </a:cubicBezTo>
                <a:cubicBezTo>
                  <a:pt x="1330" y="1097"/>
                  <a:pt x="1328" y="1074"/>
                  <a:pt x="1333" y="1052"/>
                </a:cubicBezTo>
                <a:cubicBezTo>
                  <a:pt x="1336" y="1038"/>
                  <a:pt x="1375" y="1020"/>
                  <a:pt x="1385" y="1011"/>
                </a:cubicBezTo>
                <a:cubicBezTo>
                  <a:pt x="1422" y="978"/>
                  <a:pt x="1451" y="930"/>
                  <a:pt x="1492" y="903"/>
                </a:cubicBezTo>
                <a:cubicBezTo>
                  <a:pt x="1508" y="874"/>
                  <a:pt x="1529" y="848"/>
                  <a:pt x="1538" y="816"/>
                </a:cubicBezTo>
                <a:cubicBezTo>
                  <a:pt x="1542" y="801"/>
                  <a:pt x="1549" y="770"/>
                  <a:pt x="1549" y="770"/>
                </a:cubicBezTo>
                <a:cubicBezTo>
                  <a:pt x="1544" y="724"/>
                  <a:pt x="1538" y="678"/>
                  <a:pt x="1518" y="636"/>
                </a:cubicBezTo>
                <a:cubicBezTo>
                  <a:pt x="1510" y="594"/>
                  <a:pt x="1517" y="619"/>
                  <a:pt x="1492" y="565"/>
                </a:cubicBezTo>
                <a:cubicBezTo>
                  <a:pt x="1476" y="530"/>
                  <a:pt x="1488" y="523"/>
                  <a:pt x="1461" y="498"/>
                </a:cubicBezTo>
                <a:cubicBezTo>
                  <a:pt x="1477" y="476"/>
                  <a:pt x="1501" y="452"/>
                  <a:pt x="1523" y="436"/>
                </a:cubicBezTo>
                <a:cubicBezTo>
                  <a:pt x="1537" y="393"/>
                  <a:pt x="1532" y="416"/>
                  <a:pt x="1538" y="365"/>
                </a:cubicBezTo>
                <a:cubicBezTo>
                  <a:pt x="1522" y="249"/>
                  <a:pt x="1482" y="214"/>
                  <a:pt x="1390" y="149"/>
                </a:cubicBezTo>
                <a:cubicBezTo>
                  <a:pt x="1342" y="115"/>
                  <a:pt x="1304" y="76"/>
                  <a:pt x="1246" y="62"/>
                </a:cubicBezTo>
                <a:cubicBezTo>
                  <a:pt x="1204" y="66"/>
                  <a:pt x="1192" y="65"/>
                  <a:pt x="1159" y="83"/>
                </a:cubicBezTo>
                <a:cubicBezTo>
                  <a:pt x="1146" y="69"/>
                  <a:pt x="1136" y="50"/>
                  <a:pt x="1123" y="36"/>
                </a:cubicBezTo>
                <a:cubicBezTo>
                  <a:pt x="1104" y="16"/>
                  <a:pt x="1043" y="8"/>
                  <a:pt x="1015" y="1"/>
                </a:cubicBezTo>
                <a:cubicBezTo>
                  <a:pt x="944" y="3"/>
                  <a:pt x="882" y="0"/>
                  <a:pt x="815" y="16"/>
                </a:cubicBezTo>
                <a:cubicBezTo>
                  <a:pt x="780" y="33"/>
                  <a:pt x="751" y="49"/>
                  <a:pt x="723" y="77"/>
                </a:cubicBezTo>
                <a:cubicBezTo>
                  <a:pt x="716" y="98"/>
                  <a:pt x="707" y="112"/>
                  <a:pt x="702" y="134"/>
                </a:cubicBezTo>
                <a:cubicBezTo>
                  <a:pt x="695" y="132"/>
                  <a:pt x="575" y="29"/>
                  <a:pt x="569" y="26"/>
                </a:cubicBezTo>
                <a:cubicBezTo>
                  <a:pt x="560" y="22"/>
                  <a:pt x="451" y="1"/>
                  <a:pt x="415" y="31"/>
                </a:cubicBezTo>
                <a:cubicBezTo>
                  <a:pt x="367" y="35"/>
                  <a:pt x="358" y="104"/>
                  <a:pt x="318" y="108"/>
                </a:cubicBezTo>
                <a:cubicBezTo>
                  <a:pt x="283" y="108"/>
                  <a:pt x="245" y="37"/>
                  <a:pt x="205" y="31"/>
                </a:cubicBezTo>
                <a:cubicBezTo>
                  <a:pt x="167" y="34"/>
                  <a:pt x="111" y="61"/>
                  <a:pt x="77" y="72"/>
                </a:cubicBezTo>
                <a:cubicBezTo>
                  <a:pt x="47" y="105"/>
                  <a:pt x="14" y="124"/>
                  <a:pt x="0" y="170"/>
                </a:cubicBezTo>
                <a:cubicBezTo>
                  <a:pt x="7" y="271"/>
                  <a:pt x="23" y="334"/>
                  <a:pt x="108" y="395"/>
                </a:cubicBezTo>
                <a:cubicBezTo>
                  <a:pt x="122" y="417"/>
                  <a:pt x="116" y="424"/>
                  <a:pt x="92" y="431"/>
                </a:cubicBezTo>
                <a:cubicBezTo>
                  <a:pt x="82" y="438"/>
                  <a:pt x="69" y="443"/>
                  <a:pt x="61" y="452"/>
                </a:cubicBezTo>
                <a:cubicBezTo>
                  <a:pt x="56" y="458"/>
                  <a:pt x="55" y="466"/>
                  <a:pt x="51" y="472"/>
                </a:cubicBezTo>
                <a:cubicBezTo>
                  <a:pt x="48" y="476"/>
                  <a:pt x="44" y="479"/>
                  <a:pt x="41" y="483"/>
                </a:cubicBezTo>
                <a:cubicBezTo>
                  <a:pt x="30" y="516"/>
                  <a:pt x="17" y="522"/>
                  <a:pt x="10" y="560"/>
                </a:cubicBezTo>
                <a:cubicBezTo>
                  <a:pt x="13" y="610"/>
                  <a:pt x="6" y="679"/>
                  <a:pt x="56" y="713"/>
                </a:cubicBezTo>
                <a:cubicBezTo>
                  <a:pt x="66" y="720"/>
                  <a:pt x="77" y="723"/>
                  <a:pt x="87" y="729"/>
                </a:cubicBezTo>
                <a:cubicBezTo>
                  <a:pt x="76" y="751"/>
                  <a:pt x="69" y="757"/>
                  <a:pt x="46" y="765"/>
                </a:cubicBezTo>
                <a:cubicBezTo>
                  <a:pt x="32" y="783"/>
                  <a:pt x="22" y="799"/>
                  <a:pt x="15" y="821"/>
                </a:cubicBezTo>
                <a:cubicBezTo>
                  <a:pt x="17" y="845"/>
                  <a:pt x="17" y="869"/>
                  <a:pt x="20" y="893"/>
                </a:cubicBezTo>
                <a:cubicBezTo>
                  <a:pt x="21" y="898"/>
                  <a:pt x="36" y="928"/>
                  <a:pt x="36" y="929"/>
                </a:cubicBezTo>
                <a:cubicBezTo>
                  <a:pt x="84" y="1045"/>
                  <a:pt x="208" y="1047"/>
                  <a:pt x="313" y="1067"/>
                </a:cubicBezTo>
                <a:cubicBezTo>
                  <a:pt x="320" y="1075"/>
                  <a:pt x="347" y="1093"/>
                  <a:pt x="323" y="1093"/>
                </a:cubicBezTo>
                <a:close/>
              </a:path>
            </a:pathLst>
          </a:custGeom>
          <a:solidFill>
            <a:srgbClr val="cecece"/>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0" name=""/>
          <p:cNvSpPr/>
          <p:nvPr/>
        </p:nvSpPr>
        <p:spPr>
          <a:xfrm>
            <a:off x="839520" y="4723560"/>
            <a:ext cx="112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1</a:t>
            </a:r>
            <a:endParaRPr b="0" lang="en-US" sz="1800" spc="-1" strike="noStrike">
              <a:solidFill>
                <a:srgbClr val="000000"/>
              </a:solidFill>
              <a:latin typeface="Times New Roman"/>
            </a:endParaRPr>
          </a:p>
        </p:txBody>
      </p:sp>
      <p:sp>
        <p:nvSpPr>
          <p:cNvPr id="301" name=""/>
          <p:cNvSpPr/>
          <p:nvPr/>
        </p:nvSpPr>
        <p:spPr>
          <a:xfrm>
            <a:off x="25146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2" name=""/>
          <p:cNvSpPr/>
          <p:nvPr/>
        </p:nvSpPr>
        <p:spPr>
          <a:xfrm>
            <a:off x="2971800" y="54100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1500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fferentiated Services</a:t>
            </a:r>
            <a:endParaRPr b="1" i="1" lang="en-US" sz="4400" spc="-1" strike="noStrike">
              <a:solidFill>
                <a:srgbClr val="00279f"/>
              </a:solidFill>
              <a:latin typeface="Times New Roman"/>
            </a:endParaRPr>
          </a:p>
        </p:txBody>
      </p:sp>
      <p:sp>
        <p:nvSpPr>
          <p:cNvPr id="305" name="PlaceHolder 2"/>
          <p:cNvSpPr>
            <a:spLocks noGrp="1"/>
          </p:cNvSpPr>
          <p:nvPr>
            <p:ph/>
          </p:nvPr>
        </p:nvSpPr>
        <p:spPr>
          <a:xfrm>
            <a:off x="685800" y="1447920"/>
            <a:ext cx="7772400" cy="2666880"/>
          </a:xfrm>
          <a:prstGeom prst="rect">
            <a:avLst/>
          </a:prstGeom>
          <a:noFill/>
          <a:ln w="0">
            <a:noFill/>
          </a:ln>
        </p:spPr>
        <p:txBody>
          <a:bodyPr lIns="90360" rIns="90360" tIns="44280" bIns="4428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ly work at border/edge route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shaping, policing, priority re-marking</a:t>
            </a:r>
            <a:endParaRPr b="0" i="1" lang="en-US" sz="24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routers use simple priority queuing</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s</a:t>
            </a:r>
            <a:endParaRPr b="0" lang="en-US" sz="32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hop behavior defined (within domain)</a:t>
            </a:r>
            <a:endParaRPr b="0" i="1"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to-end behavior undefined (across domains)</a:t>
            </a:r>
            <a:endParaRPr b="0" i="1" lang="en-US" sz="2400" spc="-1" strike="noStrike">
              <a:solidFill>
                <a:srgbClr val="000000"/>
              </a:solidFill>
              <a:latin typeface="Times New Roman"/>
            </a:endParaRPr>
          </a:p>
        </p:txBody>
      </p:sp>
      <p:sp>
        <p:nvSpPr>
          <p:cNvPr id="306" name=""/>
          <p:cNvSpPr/>
          <p:nvPr/>
        </p:nvSpPr>
        <p:spPr>
          <a:xfrm>
            <a:off x="350532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7" name=""/>
          <p:cNvSpPr/>
          <p:nvPr/>
        </p:nvSpPr>
        <p:spPr>
          <a:xfrm>
            <a:off x="525780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
        <p:nvSpPr>
          <p:cNvPr id="308" name=""/>
          <p:cNvSpPr/>
          <p:nvPr/>
        </p:nvSpPr>
        <p:spPr>
          <a:xfrm>
            <a:off x="6324480" y="5181480"/>
            <a:ext cx="457200" cy="414360"/>
          </a:xfrm>
          <a:prstGeom prst="rect">
            <a:avLst/>
          </a:prstGeom>
          <a:solidFill>
            <a:srgbClr val="fd93b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3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n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add new services to network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multicast took almost 10 years to get into networ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source reservation in net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celerate infrastructure innovation</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nnovation is too s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31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n Extensible Gateway (OEG)</a:t>
            </a:r>
            <a:br>
              <a:rPr sz="4400"/>
            </a:br>
            <a:r>
              <a:rPr b="1" i="1" lang="en-US" sz="2800" spc="-1" strike="noStrike">
                <a:solidFill>
                  <a:srgbClr val="00279f"/>
                </a:solidFill>
                <a:latin typeface="Times New Roman"/>
              </a:rPr>
              <a:t>“Toolkit for Application Specific Gateways”</a:t>
            </a:r>
            <a:endParaRPr b="1" i="1" lang="en-US" sz="2800" spc="-1" strike="noStrike">
              <a:solidFill>
                <a:srgbClr val="00279f"/>
              </a:solidFill>
              <a:latin typeface="Times New Roman"/>
            </a:endParaRPr>
          </a:p>
        </p:txBody>
      </p:sp>
      <p:sp>
        <p:nvSpPr>
          <p:cNvPr id="314" name="PlaceHolder 2"/>
          <p:cNvSpPr>
            <a:spLocks noGrp="1"/>
          </p:cNvSpPr>
          <p:nvPr>
            <p:ph/>
          </p:nvPr>
        </p:nvSpPr>
        <p:spPr>
          <a:xfrm>
            <a:off x="685800" y="1828800"/>
            <a:ext cx="7772400" cy="4572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s run variety of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usually implemented independent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way to dynamically add new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fines a toolkit to build and deploy 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band service deploy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RSV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Networking Issues</a:t>
            </a:r>
            <a:endParaRPr b="1" i="1" lang="en-US" sz="4400" spc="-1" strike="noStrike">
              <a:solidFill>
                <a:srgbClr val="00279f"/>
              </a:solidFill>
              <a:latin typeface="Times New Roman"/>
            </a:endParaRPr>
          </a:p>
        </p:txBody>
      </p:sp>
      <p:sp>
        <p:nvSpPr>
          <p:cNvPr id="31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s rapid growth raised concern that there are not enough IP addresse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development of Classless Inter-Domain Routing (CIDR) and Network Address Translation (NA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want to build private networks using the public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d to the development of Virtual Private Networks (VP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Address Depletion</a:t>
            </a:r>
            <a:endParaRPr b="1" i="1" lang="en-US" sz="4400" spc="-1" strike="noStrike">
              <a:solidFill>
                <a:srgbClr val="00279f"/>
              </a:solidFill>
              <a:latin typeface="Times New Roman"/>
            </a:endParaRPr>
          </a:p>
        </p:txBody>
      </p:sp>
      <p:sp>
        <p:nvSpPr>
          <p:cNvPr id="3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divided into cla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A: 256 addresses (195.199.1.*)</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B: 65536 addresses (128.32.*.*)</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ass C: 2^24 addresses (18.*.*.*)</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nough block sizes to reflect network n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NAT)</a:t>
            </a:r>
            <a:endParaRPr b="1" i="1" lang="en-US" sz="4400" spc="-1" strike="noStrike">
              <a:solidFill>
                <a:srgbClr val="00279f"/>
              </a:solidFill>
              <a:latin typeface="Times New Roman"/>
            </a:endParaRPr>
          </a:p>
        </p:txBody>
      </p:sp>
      <p:sp>
        <p:nvSpPr>
          <p:cNvPr id="32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privately addressed networks to function on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t most a few IP addresses per network, reducing global IP address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u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site 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web ser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networ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 (VPN)</a:t>
            </a:r>
            <a:endParaRPr b="1" i="1" lang="en-US" sz="4400" spc="-1" strike="noStrike">
              <a:solidFill>
                <a:srgbClr val="00279f"/>
              </a:solidFill>
              <a:latin typeface="Times New Roman"/>
            </a:endParaRPr>
          </a:p>
        </p:txBody>
      </p:sp>
      <p:sp>
        <p:nvSpPr>
          <p:cNvPr id="3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 logical network from networks at remote lo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remote users to home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hared infrastructure reduces cost of building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 of Presentations</a:t>
            </a:r>
            <a:endParaRPr b="1" i="1" lang="en-US" sz="4400" spc="-1" strike="noStrike">
              <a:solidFill>
                <a:srgbClr val="00279f"/>
              </a:solidFill>
              <a:latin typeface="Times New Roman"/>
            </a:endParaRPr>
          </a:p>
        </p:txBody>
      </p:sp>
      <p:sp>
        <p:nvSpPr>
          <p:cNvPr id="32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and basic multicast rout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l-time protocol, receiver driven layered multicast, and reliable multicast</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n Extensible Gateway</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rrow</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erVation Protocol (RSVP) and Integr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iated Servic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routing protocols (CBT, PIM, BGM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rtual Private Networks and Network Address Trans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pplication Demand</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o/video, telephony, collaboration, and distance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distribution (e.g. news, software, stock ticker,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and television style broadcasting (e.g. Real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is ess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and overwhelms network capac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network model is best eff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guarantees on quality of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 variability in network technology and service (ATM, Ethernet, wirel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want ubiquitous, reliable, high quality applications and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multicast?</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 N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hardware efficiently supports multicast transpor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Ethernet allows one packet to be received by many hos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ifferent protocols and service model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 IETF IP Multicast, ATM Multipoin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7"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8" name=""/>
          <p:cNvGrpSpPr/>
          <p:nvPr/>
        </p:nvGrpSpPr>
        <p:grpSpPr>
          <a:xfrm>
            <a:off x="6400800" y="1905120"/>
            <a:ext cx="457200" cy="456840"/>
            <a:chOff x="6400800" y="1905120"/>
            <a:chExt cx="457200" cy="456840"/>
          </a:xfrm>
        </p:grpSpPr>
        <p:sp>
          <p:nvSpPr>
            <p:cNvPr id="59"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1"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2"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3"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74"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75" name=""/>
          <p:cNvGrpSpPr/>
          <p:nvPr/>
        </p:nvGrpSpPr>
        <p:grpSpPr>
          <a:xfrm>
            <a:off x="5029200" y="4952880"/>
            <a:ext cx="457200" cy="456840"/>
            <a:chOff x="5029200" y="4952880"/>
            <a:chExt cx="457200" cy="456840"/>
          </a:xfrm>
        </p:grpSpPr>
        <p:sp>
          <p:nvSpPr>
            <p:cNvPr id="76"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8"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7" name=""/>
          <p:cNvGrpSpPr/>
          <p:nvPr/>
        </p:nvGrpSpPr>
        <p:grpSpPr>
          <a:xfrm>
            <a:off x="6477120" y="4952880"/>
            <a:ext cx="457200" cy="456840"/>
            <a:chOff x="6477120" y="4952880"/>
            <a:chExt cx="457200" cy="456840"/>
          </a:xfrm>
        </p:grpSpPr>
        <p:sp>
          <p:nvSpPr>
            <p:cNvPr id="88"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0"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9" name=""/>
          <p:cNvGrpSpPr/>
          <p:nvPr/>
        </p:nvGrpSpPr>
        <p:grpSpPr>
          <a:xfrm>
            <a:off x="7696080" y="4952880"/>
            <a:ext cx="457200" cy="456840"/>
            <a:chOff x="7696080" y="4952880"/>
            <a:chExt cx="457200" cy="456840"/>
          </a:xfrm>
        </p:grpSpPr>
        <p:sp>
          <p:nvSpPr>
            <p:cNvPr id="100"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2"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1"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15"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6" name=""/>
          <p:cNvGrpSpPr/>
          <p:nvPr/>
        </p:nvGrpSpPr>
        <p:grpSpPr>
          <a:xfrm>
            <a:off x="5029200" y="4952880"/>
            <a:ext cx="457200" cy="456840"/>
            <a:chOff x="5029200" y="4952880"/>
            <a:chExt cx="457200" cy="456840"/>
          </a:xfrm>
        </p:grpSpPr>
        <p:sp>
          <p:nvSpPr>
            <p:cNvPr id="117"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 name=""/>
          <p:cNvGrpSpPr/>
          <p:nvPr/>
        </p:nvGrpSpPr>
        <p:grpSpPr>
          <a:xfrm>
            <a:off x="6477120" y="4952880"/>
            <a:ext cx="457200" cy="456840"/>
            <a:chOff x="6477120" y="4952880"/>
            <a:chExt cx="457200" cy="456840"/>
          </a:xfrm>
        </p:grpSpPr>
        <p:sp>
          <p:nvSpPr>
            <p:cNvPr id="129"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0" name=""/>
          <p:cNvGrpSpPr/>
          <p:nvPr/>
        </p:nvGrpSpPr>
        <p:grpSpPr>
          <a:xfrm>
            <a:off x="7696080" y="4952880"/>
            <a:ext cx="457200" cy="456840"/>
            <a:chOff x="7696080" y="4952880"/>
            <a:chExt cx="457200" cy="456840"/>
          </a:xfrm>
        </p:grpSpPr>
        <p:sp>
          <p:nvSpPr>
            <p:cNvPr id="141"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2" name=""/>
          <p:cNvGrpSpPr/>
          <p:nvPr/>
        </p:nvGrpSpPr>
        <p:grpSpPr>
          <a:xfrm>
            <a:off x="6400800" y="1905120"/>
            <a:ext cx="457200" cy="456840"/>
            <a:chOff x="6400800" y="1905120"/>
            <a:chExt cx="457200" cy="456840"/>
          </a:xfrm>
        </p:grpSpPr>
        <p:sp>
          <p:nvSpPr>
            <p:cNvPr id="1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8"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9"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Bone</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2, the MBone was created to further the development of IP multi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global multicast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d as a testbed for multicast applications develop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 audi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 -- video to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b -- shared whitebo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9:07:38Z</dcterms:modified>
  <cp:revision>65</cp:revision>
  <dc:subject/>
  <dc:title>End-to-End CM Delivery Research</dc:title>
</cp:coreProperties>
</file>